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15.pct" ContentType="image/x-pict"/>
  <Override PartName="/ppt/media/image14.png" ContentType="image/png"/>
  <Override PartName="/ppt/media/image6.pct" ContentType="image/x-pict"/>
  <Override PartName="/ppt/media/image11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6858000" cy="1066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425520"/>
            <a:ext cx="617184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496240"/>
            <a:ext cx="617184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2720" y="5727960"/>
            <a:ext cx="617184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425520"/>
            <a:ext cx="617184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496240"/>
            <a:ext cx="301176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496240"/>
            <a:ext cx="301176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727960"/>
            <a:ext cx="301176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5320" y="5727960"/>
            <a:ext cx="301176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425520"/>
            <a:ext cx="617184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496240"/>
            <a:ext cx="198720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29640" y="2496240"/>
            <a:ext cx="198720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16560" y="2496240"/>
            <a:ext cx="198720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2720" y="5727960"/>
            <a:ext cx="198720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29640" y="5727960"/>
            <a:ext cx="198720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16560" y="5727960"/>
            <a:ext cx="198720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25520"/>
            <a:ext cx="617184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2720" y="2496240"/>
            <a:ext cx="617184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25520"/>
            <a:ext cx="617184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496240"/>
            <a:ext cx="617184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425520"/>
            <a:ext cx="617184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496240"/>
            <a:ext cx="301176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496240"/>
            <a:ext cx="301176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25520"/>
            <a:ext cx="617184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2720" y="425520"/>
            <a:ext cx="61718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425520"/>
            <a:ext cx="617184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496240"/>
            <a:ext cx="301176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496240"/>
            <a:ext cx="301176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2720" y="5727960"/>
            <a:ext cx="301176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425520"/>
            <a:ext cx="617184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496240"/>
            <a:ext cx="301176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496240"/>
            <a:ext cx="301176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5320" y="5727960"/>
            <a:ext cx="301176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425520"/>
            <a:ext cx="617184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496240"/>
            <a:ext cx="301176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496240"/>
            <a:ext cx="301176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727960"/>
            <a:ext cx="617184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08240" y="8069400"/>
            <a:ext cx="215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336840" y="501336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336840" y="815184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5E598599-C933-4123-9795-5CDA308D28A5}" type="slidenum">
              <a:rPr b="0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-1844640" y="8304120"/>
            <a:ext cx="125748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21200F8D-7380-459B-8A28-F77D59F0151E}" type="datetime"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7/30/26</a:t>
            </a:fld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tage 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3886200" y="8183520"/>
            <a:ext cx="4724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rnard Lécuss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25520"/>
            <a:ext cx="617184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42720" y="2496240"/>
            <a:ext cx="617184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9.pct"/><Relationship Id="rId3" Type="http://schemas.openxmlformats.org/officeDocument/2006/relationships/image" Target="../media/image9.pct"/><Relationship Id="rId4" Type="http://schemas.openxmlformats.org/officeDocument/2006/relationships/image" Target="../media/image9.pct"/><Relationship Id="rId5" Type="http://schemas.openxmlformats.org/officeDocument/2006/relationships/image" Target="../media/image9.pct"/><Relationship Id="rId6" Type="http://schemas.openxmlformats.org/officeDocument/2006/relationships/image" Target="../media/image9.pct"/><Relationship Id="rId7" Type="http://schemas.openxmlformats.org/officeDocument/2006/relationships/image" Target="../media/image9.pct"/><Relationship Id="rId8" Type="http://schemas.openxmlformats.org/officeDocument/2006/relationships/image" Target="../media/image9.pct"/><Relationship Id="rId9" Type="http://schemas.openxmlformats.org/officeDocument/2006/relationships/image" Target="../media/image10.pct"/><Relationship Id="rId10" Type="http://schemas.openxmlformats.org/officeDocument/2006/relationships/image" Target="../media/image10.pct"/><Relationship Id="rId11" Type="http://schemas.openxmlformats.org/officeDocument/2006/relationships/image" Target="../media/image10.pct"/><Relationship Id="rId12" Type="http://schemas.openxmlformats.org/officeDocument/2006/relationships/image" Target="../media/image10.pct"/><Relationship Id="rId13" Type="http://schemas.openxmlformats.org/officeDocument/2006/relationships/image" Target="../media/image11.pct"/><Relationship Id="rId14" Type="http://schemas.openxmlformats.org/officeDocument/2006/relationships/image" Target="../media/image11.pct"/><Relationship Id="rId15" Type="http://schemas.openxmlformats.org/officeDocument/2006/relationships/image" Target="../media/image11.pct"/><Relationship Id="rId16" Type="http://schemas.openxmlformats.org/officeDocument/2006/relationships/image" Target="../media/image11.pct"/><Relationship Id="rId17" Type="http://schemas.openxmlformats.org/officeDocument/2006/relationships/image" Target="../media/image11.pct"/><Relationship Id="rId18" Type="http://schemas.openxmlformats.org/officeDocument/2006/relationships/image" Target="../media/image11.pct"/><Relationship Id="rId19" Type="http://schemas.openxmlformats.org/officeDocument/2006/relationships/image" Target="../media/image11.pct"/><Relationship Id="rId20" Type="http://schemas.openxmlformats.org/officeDocument/2006/relationships/image" Target="../media/image11.pct"/><Relationship Id="rId21" Type="http://schemas.openxmlformats.org/officeDocument/2006/relationships/image" Target="../media/image11.pct"/><Relationship Id="rId22" Type="http://schemas.openxmlformats.org/officeDocument/2006/relationships/image" Target="../media/image11.pct"/><Relationship Id="rId23" Type="http://schemas.openxmlformats.org/officeDocument/2006/relationships/image" Target="../media/image11.pct"/><Relationship Id="rId24" Type="http://schemas.openxmlformats.org/officeDocument/2006/relationships/image" Target="../media/image11.pct"/><Relationship Id="rId25" Type="http://schemas.openxmlformats.org/officeDocument/2006/relationships/image" Target="../media/image11.pct"/><Relationship Id="rId26" Type="http://schemas.openxmlformats.org/officeDocument/2006/relationships/image" Target="../media/image11.pct"/><Relationship Id="rId27" Type="http://schemas.openxmlformats.org/officeDocument/2006/relationships/image" Target="../media/image11.pct"/><Relationship Id="rId28" Type="http://schemas.openxmlformats.org/officeDocument/2006/relationships/image" Target="../media/image11.pct"/><Relationship Id="rId29" Type="http://schemas.openxmlformats.org/officeDocument/2006/relationships/image" Target="../media/image11.pct"/><Relationship Id="rId30" Type="http://schemas.openxmlformats.org/officeDocument/2006/relationships/image" Target="../media/image11.pct"/><Relationship Id="rId31" Type="http://schemas.openxmlformats.org/officeDocument/2006/relationships/image" Target="../media/image11.pct"/><Relationship Id="rId32" Type="http://schemas.openxmlformats.org/officeDocument/2006/relationships/image" Target="../media/image11.pct"/><Relationship Id="rId33" Type="http://schemas.openxmlformats.org/officeDocument/2006/relationships/image" Target="../media/image11.pct"/><Relationship Id="rId34" Type="http://schemas.openxmlformats.org/officeDocument/2006/relationships/image" Target="../media/image11.pct"/><Relationship Id="rId35" Type="http://schemas.openxmlformats.org/officeDocument/2006/relationships/image" Target="../media/image11.pct"/><Relationship Id="rId36" Type="http://schemas.openxmlformats.org/officeDocument/2006/relationships/image" Target="../media/image11.pct"/><Relationship Id="rId37" Type="http://schemas.openxmlformats.org/officeDocument/2006/relationships/image" Target="../media/image11.pct"/><Relationship Id="rId38" Type="http://schemas.openxmlformats.org/officeDocument/2006/relationships/image" Target="../media/image11.pct"/><Relationship Id="rId39" Type="http://schemas.openxmlformats.org/officeDocument/2006/relationships/image" Target="../media/image11.pct"/><Relationship Id="rId40" Type="http://schemas.openxmlformats.org/officeDocument/2006/relationships/image" Target="../media/image11.pct"/><Relationship Id="rId41" Type="http://schemas.openxmlformats.org/officeDocument/2006/relationships/image" Target="../media/image11.pct"/><Relationship Id="rId42" Type="http://schemas.openxmlformats.org/officeDocument/2006/relationships/image" Target="../media/image11.pct"/><Relationship Id="rId43" Type="http://schemas.openxmlformats.org/officeDocument/2006/relationships/image" Target="../media/image11.pct"/><Relationship Id="rId44" Type="http://schemas.openxmlformats.org/officeDocument/2006/relationships/image" Target="../media/image11.pct"/><Relationship Id="rId45" Type="http://schemas.openxmlformats.org/officeDocument/2006/relationships/image" Target="../media/image11.pct"/><Relationship Id="rId46" Type="http://schemas.openxmlformats.org/officeDocument/2006/relationships/image" Target="../media/image11.pct"/><Relationship Id="rId47" Type="http://schemas.openxmlformats.org/officeDocument/2006/relationships/image" Target="../media/image11.pct"/><Relationship Id="rId48" Type="http://schemas.openxmlformats.org/officeDocument/2006/relationships/image" Target="../media/image11.pct"/><Relationship Id="rId49" Type="http://schemas.openxmlformats.org/officeDocument/2006/relationships/image" Target="../media/image10.pct"/><Relationship Id="rId5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0.pct"/><Relationship Id="rId3" Type="http://schemas.openxmlformats.org/officeDocument/2006/relationships/image" Target="../media/image10.pct"/><Relationship Id="rId4" Type="http://schemas.openxmlformats.org/officeDocument/2006/relationships/image" Target="../media/image10.pct"/><Relationship Id="rId5" Type="http://schemas.openxmlformats.org/officeDocument/2006/relationships/image" Target="../media/image11.pct"/><Relationship Id="rId6" Type="http://schemas.openxmlformats.org/officeDocument/2006/relationships/image" Target="../media/image11.pct"/><Relationship Id="rId7" Type="http://schemas.openxmlformats.org/officeDocument/2006/relationships/image" Target="../media/image11.pct"/><Relationship Id="rId8" Type="http://schemas.openxmlformats.org/officeDocument/2006/relationships/image" Target="../media/image11.pct"/><Relationship Id="rId9" Type="http://schemas.openxmlformats.org/officeDocument/2006/relationships/image" Target="../media/image11.pct"/><Relationship Id="rId10" Type="http://schemas.openxmlformats.org/officeDocument/2006/relationships/image" Target="../media/image11.pct"/><Relationship Id="rId11" Type="http://schemas.openxmlformats.org/officeDocument/2006/relationships/image" Target="../media/image11.pct"/><Relationship Id="rId12" Type="http://schemas.openxmlformats.org/officeDocument/2006/relationships/image" Target="../media/image11.pct"/><Relationship Id="rId13" Type="http://schemas.openxmlformats.org/officeDocument/2006/relationships/image" Target="../media/image11.pct"/><Relationship Id="rId14" Type="http://schemas.openxmlformats.org/officeDocument/2006/relationships/image" Target="../media/image11.pct"/><Relationship Id="rId15" Type="http://schemas.openxmlformats.org/officeDocument/2006/relationships/image" Target="../media/image11.pct"/><Relationship Id="rId16" Type="http://schemas.openxmlformats.org/officeDocument/2006/relationships/image" Target="../media/image11.pct"/><Relationship Id="rId17" Type="http://schemas.openxmlformats.org/officeDocument/2006/relationships/image" Target="../media/image11.pct"/><Relationship Id="rId18" Type="http://schemas.openxmlformats.org/officeDocument/2006/relationships/image" Target="../media/image11.pct"/><Relationship Id="rId19" Type="http://schemas.openxmlformats.org/officeDocument/2006/relationships/image" Target="../media/image11.pct"/><Relationship Id="rId20" Type="http://schemas.openxmlformats.org/officeDocument/2006/relationships/image" Target="../media/image11.pct"/><Relationship Id="rId21" Type="http://schemas.openxmlformats.org/officeDocument/2006/relationships/image" Target="../media/image11.pct"/><Relationship Id="rId22" Type="http://schemas.openxmlformats.org/officeDocument/2006/relationships/image" Target="../media/image11.pct"/><Relationship Id="rId23" Type="http://schemas.openxmlformats.org/officeDocument/2006/relationships/image" Target="../media/image11.pct"/><Relationship Id="rId24" Type="http://schemas.openxmlformats.org/officeDocument/2006/relationships/image" Target="../media/image11.pct"/><Relationship Id="rId25" Type="http://schemas.openxmlformats.org/officeDocument/2006/relationships/image" Target="../media/image11.pct"/><Relationship Id="rId26" Type="http://schemas.openxmlformats.org/officeDocument/2006/relationships/image" Target="../media/image11.pct"/><Relationship Id="rId27" Type="http://schemas.openxmlformats.org/officeDocument/2006/relationships/image" Target="../media/image11.pct"/><Relationship Id="rId28" Type="http://schemas.openxmlformats.org/officeDocument/2006/relationships/image" Target="../media/image11.pct"/><Relationship Id="rId29" Type="http://schemas.openxmlformats.org/officeDocument/2006/relationships/image" Target="../media/image11.pct"/><Relationship Id="rId30" Type="http://schemas.openxmlformats.org/officeDocument/2006/relationships/image" Target="../media/image11.pct"/><Relationship Id="rId31" Type="http://schemas.openxmlformats.org/officeDocument/2006/relationships/image" Target="../media/image11.pct"/><Relationship Id="rId32" Type="http://schemas.openxmlformats.org/officeDocument/2006/relationships/image" Target="../media/image11.pct"/><Relationship Id="rId33" Type="http://schemas.openxmlformats.org/officeDocument/2006/relationships/image" Target="../media/image11.pct"/><Relationship Id="rId34" Type="http://schemas.openxmlformats.org/officeDocument/2006/relationships/image" Target="../media/image11.pct"/><Relationship Id="rId35" Type="http://schemas.openxmlformats.org/officeDocument/2006/relationships/image" Target="../media/image11.pct"/><Relationship Id="rId36" Type="http://schemas.openxmlformats.org/officeDocument/2006/relationships/image" Target="../media/image11.pct"/><Relationship Id="rId37" Type="http://schemas.openxmlformats.org/officeDocument/2006/relationships/image" Target="../media/image11.pct"/><Relationship Id="rId38" Type="http://schemas.openxmlformats.org/officeDocument/2006/relationships/image" Target="../media/image11.pct"/><Relationship Id="rId39" Type="http://schemas.openxmlformats.org/officeDocument/2006/relationships/image" Target="../media/image11.pct"/><Relationship Id="rId40" Type="http://schemas.openxmlformats.org/officeDocument/2006/relationships/image" Target="../media/image11.pct"/><Relationship Id="rId41" Type="http://schemas.openxmlformats.org/officeDocument/2006/relationships/image" Target="../media/image10.pct"/><Relationship Id="rId4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9.pct"/><Relationship Id="rId3" Type="http://schemas.openxmlformats.org/officeDocument/2006/relationships/image" Target="../media/image9.pct"/><Relationship Id="rId4" Type="http://schemas.openxmlformats.org/officeDocument/2006/relationships/image" Target="../media/image9.pct"/><Relationship Id="rId5" Type="http://schemas.openxmlformats.org/officeDocument/2006/relationships/image" Target="../media/image9.pct"/><Relationship Id="rId6" Type="http://schemas.openxmlformats.org/officeDocument/2006/relationships/image" Target="../media/image9.pct"/><Relationship Id="rId7" Type="http://schemas.openxmlformats.org/officeDocument/2006/relationships/image" Target="../media/image9.pct"/><Relationship Id="rId8" Type="http://schemas.openxmlformats.org/officeDocument/2006/relationships/image" Target="../media/image9.pct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-914400" y="3276720"/>
            <a:ext cx="9144000" cy="247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es architectures des calculateurs parallè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304920" y="579132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14680" y="5956200"/>
            <a:ext cx="37209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-1104840" y="22096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lculateur Vector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1181160" y="3809880"/>
            <a:ext cx="91803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-762120" y="3429000"/>
            <a:ext cx="8534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-723960" y="19810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es architectures des calculateurs vectori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1000" y="3284640"/>
            <a:ext cx="2141640" cy="56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1040" y="3208320"/>
            <a:ext cx="2141640" cy="55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0320" y="4273560"/>
            <a:ext cx="2155680" cy="45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3440" y="5019840"/>
            <a:ext cx="2058840" cy="16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3440" y="5181480"/>
            <a:ext cx="2058840" cy="16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3440" y="5342040"/>
            <a:ext cx="2058840" cy="16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3440" y="5502240"/>
            <a:ext cx="2058840" cy="16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3440" y="5662440"/>
            <a:ext cx="2058840" cy="16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3440" y="5823000"/>
            <a:ext cx="2058840" cy="15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3440" y="5981760"/>
            <a:ext cx="2058840" cy="16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3440" y="6143760"/>
            <a:ext cx="2058840" cy="16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930400" y="6867360"/>
            <a:ext cx="462240" cy="1285920"/>
            <a:chOff x="2930400" y="6867360"/>
            <a:chExt cx="462240" cy="1285920"/>
          </a:xfrm>
        </p:grpSpPr>
        <p:sp>
          <p:nvSpPr>
            <p:cNvPr id="379" name=""/>
            <p:cNvSpPr/>
            <p:nvPr/>
          </p:nvSpPr>
          <p:spPr>
            <a:xfrm>
              <a:off x="2930400" y="6867360"/>
              <a:ext cx="461880" cy="1285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30400" y="7007400"/>
              <a:ext cx="462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30400" y="7167600"/>
              <a:ext cx="462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30400" y="7327800"/>
              <a:ext cx="462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30400" y="8055000"/>
              <a:ext cx="462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4743360" y="5048280"/>
            <a:ext cx="2158920" cy="18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43360" y="5586480"/>
            <a:ext cx="2158920" cy="18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43360" y="6122880"/>
            <a:ext cx="21589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43360" y="6651720"/>
            <a:ext cx="2158920" cy="18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43360" y="7189920"/>
            <a:ext cx="2158920" cy="19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084560" y="5086440"/>
            <a:ext cx="0" cy="23320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7167600" y="5029200"/>
            <a:ext cx="0" cy="23320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133880" y="5067360"/>
            <a:ext cx="609840" cy="179640"/>
            <a:chOff x="4133880" y="5067360"/>
            <a:chExt cx="609840" cy="179640"/>
          </a:xfrm>
        </p:grpSpPr>
        <p:grpSp>
          <p:nvGrpSpPr>
            <p:cNvPr id="392" name=""/>
            <p:cNvGrpSpPr/>
            <p:nvPr/>
          </p:nvGrpSpPr>
          <p:grpSpPr>
            <a:xfrm>
              <a:off x="4133880" y="5067360"/>
              <a:ext cx="609840" cy="76680"/>
              <a:chOff x="4133880" y="5067360"/>
              <a:chExt cx="609840" cy="76680"/>
            </a:xfrm>
          </p:grpSpPr>
          <p:sp>
            <p:nvSpPr>
              <p:cNvPr id="393" name=""/>
              <p:cNvSpPr/>
              <p:nvPr/>
            </p:nvSpPr>
            <p:spPr>
              <a:xfrm>
                <a:off x="4513320" y="5067360"/>
                <a:ext cx="230400" cy="76680"/>
              </a:xfrm>
              <a:custGeom>
                <a:avLst/>
                <a:gdLst/>
                <a:ahLst/>
                <a:rect l="0" t="0" r="r" b="b"/>
                <a:pathLst>
                  <a:path w="640" h="213">
                    <a:moveTo>
                      <a:pt x="640" y="106"/>
                    </a:moveTo>
                    <a:lnTo>
                      <a:pt x="0" y="213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64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133880" y="5111640"/>
                <a:ext cx="3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133880" y="5172120"/>
              <a:ext cx="609840" cy="74880"/>
              <a:chOff x="4133880" y="5172120"/>
              <a:chExt cx="609840" cy="74880"/>
            </a:xfrm>
          </p:grpSpPr>
          <p:sp>
            <p:nvSpPr>
              <p:cNvPr id="396" name=""/>
              <p:cNvSpPr/>
              <p:nvPr/>
            </p:nvSpPr>
            <p:spPr>
              <a:xfrm>
                <a:off x="4513320" y="5172120"/>
                <a:ext cx="230400" cy="74880"/>
              </a:xfrm>
              <a:custGeom>
                <a:avLst/>
                <a:gdLst/>
                <a:ahLst/>
                <a:rect l="0" t="0" r="r" b="b"/>
                <a:pathLst>
                  <a:path w="640" h="208">
                    <a:moveTo>
                      <a:pt x="640" y="103"/>
                    </a:moveTo>
                    <a:lnTo>
                      <a:pt x="0" y="208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64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133880" y="5214960"/>
                <a:ext cx="3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4133880" y="5607000"/>
            <a:ext cx="609840" cy="178200"/>
            <a:chOff x="4133880" y="5607000"/>
            <a:chExt cx="609840" cy="178200"/>
          </a:xfrm>
        </p:grpSpPr>
        <p:grpSp>
          <p:nvGrpSpPr>
            <p:cNvPr id="399" name=""/>
            <p:cNvGrpSpPr/>
            <p:nvPr/>
          </p:nvGrpSpPr>
          <p:grpSpPr>
            <a:xfrm>
              <a:off x="4133880" y="5607000"/>
              <a:ext cx="609840" cy="74880"/>
              <a:chOff x="4133880" y="5607000"/>
              <a:chExt cx="609840" cy="74880"/>
            </a:xfrm>
          </p:grpSpPr>
          <p:sp>
            <p:nvSpPr>
              <p:cNvPr id="400" name=""/>
              <p:cNvSpPr/>
              <p:nvPr/>
            </p:nvSpPr>
            <p:spPr>
              <a:xfrm>
                <a:off x="4513320" y="5607000"/>
                <a:ext cx="230400" cy="74880"/>
              </a:xfrm>
              <a:custGeom>
                <a:avLst/>
                <a:gdLst/>
                <a:ahLst/>
                <a:rect l="0" t="0" r="r" b="b"/>
                <a:pathLst>
                  <a:path w="640" h="208">
                    <a:moveTo>
                      <a:pt x="640" y="103"/>
                    </a:moveTo>
                    <a:lnTo>
                      <a:pt x="0" y="208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64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33880" y="5648400"/>
                <a:ext cx="3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4133880" y="5710320"/>
              <a:ext cx="609840" cy="74880"/>
              <a:chOff x="4133880" y="5710320"/>
              <a:chExt cx="609840" cy="74880"/>
            </a:xfrm>
          </p:grpSpPr>
          <p:sp>
            <p:nvSpPr>
              <p:cNvPr id="403" name=""/>
              <p:cNvSpPr/>
              <p:nvPr/>
            </p:nvSpPr>
            <p:spPr>
              <a:xfrm>
                <a:off x="4513320" y="5710320"/>
                <a:ext cx="230400" cy="74880"/>
              </a:xfrm>
              <a:custGeom>
                <a:avLst/>
                <a:gdLst/>
                <a:ahLst/>
                <a:rect l="0" t="0" r="r" b="b"/>
                <a:pathLst>
                  <a:path w="640" h="208">
                    <a:moveTo>
                      <a:pt x="640" y="103"/>
                    </a:moveTo>
                    <a:lnTo>
                      <a:pt x="0" y="208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64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33880" y="5751360"/>
                <a:ext cx="3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4133880" y="6134040"/>
            <a:ext cx="609840" cy="189360"/>
            <a:chOff x="4133880" y="6134040"/>
            <a:chExt cx="609840" cy="189360"/>
          </a:xfrm>
        </p:grpSpPr>
        <p:grpSp>
          <p:nvGrpSpPr>
            <p:cNvPr id="406" name=""/>
            <p:cNvGrpSpPr/>
            <p:nvPr/>
          </p:nvGrpSpPr>
          <p:grpSpPr>
            <a:xfrm>
              <a:off x="4133880" y="6134040"/>
              <a:ext cx="609840" cy="76680"/>
              <a:chOff x="4133880" y="6134040"/>
              <a:chExt cx="609840" cy="76680"/>
            </a:xfrm>
          </p:grpSpPr>
          <p:sp>
            <p:nvSpPr>
              <p:cNvPr id="407" name=""/>
              <p:cNvSpPr/>
              <p:nvPr/>
            </p:nvSpPr>
            <p:spPr>
              <a:xfrm>
                <a:off x="4513320" y="6134040"/>
                <a:ext cx="230400" cy="76680"/>
              </a:xfrm>
              <a:custGeom>
                <a:avLst/>
                <a:gdLst/>
                <a:ahLst/>
                <a:rect l="0" t="0" r="r" b="b"/>
                <a:pathLst>
                  <a:path w="640" h="213">
                    <a:moveTo>
                      <a:pt x="640" y="106"/>
                    </a:moveTo>
                    <a:lnTo>
                      <a:pt x="0" y="213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64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133880" y="6176880"/>
                <a:ext cx="3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4133880" y="6248520"/>
              <a:ext cx="609840" cy="74880"/>
              <a:chOff x="4133880" y="6248520"/>
              <a:chExt cx="609840" cy="74880"/>
            </a:xfrm>
          </p:grpSpPr>
          <p:sp>
            <p:nvSpPr>
              <p:cNvPr id="410" name=""/>
              <p:cNvSpPr/>
              <p:nvPr/>
            </p:nvSpPr>
            <p:spPr>
              <a:xfrm>
                <a:off x="4513320" y="6248520"/>
                <a:ext cx="230400" cy="74880"/>
              </a:xfrm>
              <a:custGeom>
                <a:avLst/>
                <a:gdLst/>
                <a:ahLst/>
                <a:rect l="0" t="0" r="r" b="b"/>
                <a:pathLst>
                  <a:path w="640" h="208">
                    <a:moveTo>
                      <a:pt x="640" y="103"/>
                    </a:moveTo>
                    <a:lnTo>
                      <a:pt x="0" y="208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64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33880" y="6291360"/>
                <a:ext cx="3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"/>
          <p:cNvGrpSpPr/>
          <p:nvPr/>
        </p:nvGrpSpPr>
        <p:grpSpPr>
          <a:xfrm>
            <a:off x="4133880" y="6672240"/>
            <a:ext cx="609840" cy="179640"/>
            <a:chOff x="4133880" y="6672240"/>
            <a:chExt cx="609840" cy="179640"/>
          </a:xfrm>
        </p:grpSpPr>
        <p:grpSp>
          <p:nvGrpSpPr>
            <p:cNvPr id="413" name=""/>
            <p:cNvGrpSpPr/>
            <p:nvPr/>
          </p:nvGrpSpPr>
          <p:grpSpPr>
            <a:xfrm>
              <a:off x="4133880" y="6672240"/>
              <a:ext cx="609840" cy="74880"/>
              <a:chOff x="4133880" y="6672240"/>
              <a:chExt cx="609840" cy="74880"/>
            </a:xfrm>
          </p:grpSpPr>
          <p:sp>
            <p:nvSpPr>
              <p:cNvPr id="414" name=""/>
              <p:cNvSpPr/>
              <p:nvPr/>
            </p:nvSpPr>
            <p:spPr>
              <a:xfrm>
                <a:off x="4513320" y="6672240"/>
                <a:ext cx="230400" cy="74880"/>
              </a:xfrm>
              <a:custGeom>
                <a:avLst/>
                <a:gdLst/>
                <a:ahLst/>
                <a:rect l="0" t="0" r="r" b="b"/>
                <a:pathLst>
                  <a:path w="640" h="208">
                    <a:moveTo>
                      <a:pt x="640" y="103"/>
                    </a:moveTo>
                    <a:lnTo>
                      <a:pt x="0" y="208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64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133880" y="6713640"/>
                <a:ext cx="3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133880" y="6777000"/>
              <a:ext cx="609840" cy="74880"/>
              <a:chOff x="4133880" y="6777000"/>
              <a:chExt cx="609840" cy="74880"/>
            </a:xfrm>
          </p:grpSpPr>
          <p:sp>
            <p:nvSpPr>
              <p:cNvPr id="417" name=""/>
              <p:cNvSpPr/>
              <p:nvPr/>
            </p:nvSpPr>
            <p:spPr>
              <a:xfrm>
                <a:off x="4513320" y="6777000"/>
                <a:ext cx="230400" cy="74880"/>
              </a:xfrm>
              <a:custGeom>
                <a:avLst/>
                <a:gdLst/>
                <a:ahLst/>
                <a:rect l="0" t="0" r="r" b="b"/>
                <a:pathLst>
                  <a:path w="640" h="208">
                    <a:moveTo>
                      <a:pt x="640" y="103"/>
                    </a:moveTo>
                    <a:lnTo>
                      <a:pt x="0" y="208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64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133880" y="6818400"/>
                <a:ext cx="3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4133880" y="7210440"/>
            <a:ext cx="609840" cy="180000"/>
            <a:chOff x="4133880" y="7210440"/>
            <a:chExt cx="609840" cy="180000"/>
          </a:xfrm>
        </p:grpSpPr>
        <p:grpSp>
          <p:nvGrpSpPr>
            <p:cNvPr id="420" name=""/>
            <p:cNvGrpSpPr/>
            <p:nvPr/>
          </p:nvGrpSpPr>
          <p:grpSpPr>
            <a:xfrm>
              <a:off x="4133880" y="7210440"/>
              <a:ext cx="609840" cy="74880"/>
              <a:chOff x="4133880" y="7210440"/>
              <a:chExt cx="609840" cy="74880"/>
            </a:xfrm>
          </p:grpSpPr>
          <p:sp>
            <p:nvSpPr>
              <p:cNvPr id="421" name=""/>
              <p:cNvSpPr/>
              <p:nvPr/>
            </p:nvSpPr>
            <p:spPr>
              <a:xfrm>
                <a:off x="4513320" y="7210440"/>
                <a:ext cx="230400" cy="74880"/>
              </a:xfrm>
              <a:custGeom>
                <a:avLst/>
                <a:gdLst/>
                <a:ahLst/>
                <a:rect l="0" t="0" r="r" b="b"/>
                <a:pathLst>
                  <a:path w="640" h="208">
                    <a:moveTo>
                      <a:pt x="640" y="103"/>
                    </a:moveTo>
                    <a:lnTo>
                      <a:pt x="0" y="208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64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33880" y="7251840"/>
                <a:ext cx="3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4133880" y="7313760"/>
              <a:ext cx="609840" cy="76680"/>
              <a:chOff x="4133880" y="7313760"/>
              <a:chExt cx="609840" cy="76680"/>
            </a:xfrm>
          </p:grpSpPr>
          <p:sp>
            <p:nvSpPr>
              <p:cNvPr id="424" name=""/>
              <p:cNvSpPr/>
              <p:nvPr/>
            </p:nvSpPr>
            <p:spPr>
              <a:xfrm>
                <a:off x="4513320" y="7313760"/>
                <a:ext cx="230400" cy="76680"/>
              </a:xfrm>
              <a:custGeom>
                <a:avLst/>
                <a:gdLst/>
                <a:ahLst/>
                <a:rect l="0" t="0" r="r" b="b"/>
                <a:pathLst>
                  <a:path w="640" h="213">
                    <a:moveTo>
                      <a:pt x="640" y="106"/>
                    </a:moveTo>
                    <a:lnTo>
                      <a:pt x="0" y="213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64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133880" y="7356600"/>
                <a:ext cx="3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6853320" y="5114880"/>
            <a:ext cx="330480" cy="74880"/>
            <a:chOff x="6853320" y="5114880"/>
            <a:chExt cx="330480" cy="74880"/>
          </a:xfrm>
        </p:grpSpPr>
        <p:sp>
          <p:nvSpPr>
            <p:cNvPr id="427" name=""/>
            <p:cNvSpPr/>
            <p:nvPr/>
          </p:nvSpPr>
          <p:spPr>
            <a:xfrm>
              <a:off x="6953400" y="5114880"/>
              <a:ext cx="230400" cy="74880"/>
            </a:xfrm>
            <a:custGeom>
              <a:avLst/>
              <a:gdLst/>
              <a:ahLst/>
              <a:rect l="0" t="0" r="r" b="b"/>
              <a:pathLst>
                <a:path w="640" h="208">
                  <a:moveTo>
                    <a:pt x="640" y="103"/>
                  </a:moveTo>
                  <a:lnTo>
                    <a:pt x="0" y="208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640" y="10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53320" y="5157720"/>
              <a:ext cx="100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902280" y="5653080"/>
            <a:ext cx="315000" cy="74880"/>
            <a:chOff x="6902280" y="5653080"/>
            <a:chExt cx="315000" cy="74880"/>
          </a:xfrm>
        </p:grpSpPr>
        <p:sp>
          <p:nvSpPr>
            <p:cNvPr id="430" name=""/>
            <p:cNvSpPr/>
            <p:nvPr/>
          </p:nvSpPr>
          <p:spPr>
            <a:xfrm>
              <a:off x="6985080" y="5653080"/>
              <a:ext cx="232200" cy="74880"/>
            </a:xfrm>
            <a:custGeom>
              <a:avLst/>
              <a:gdLst/>
              <a:ahLst/>
              <a:rect l="0" t="0" r="r" b="b"/>
              <a:pathLst>
                <a:path w="645" h="208">
                  <a:moveTo>
                    <a:pt x="645" y="103"/>
                  </a:moveTo>
                  <a:lnTo>
                    <a:pt x="0" y="208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645" y="10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02280" y="5694480"/>
              <a:ext cx="82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902280" y="6189840"/>
            <a:ext cx="315000" cy="76680"/>
            <a:chOff x="6902280" y="6189840"/>
            <a:chExt cx="315000" cy="76680"/>
          </a:xfrm>
        </p:grpSpPr>
        <p:sp>
          <p:nvSpPr>
            <p:cNvPr id="433" name=""/>
            <p:cNvSpPr/>
            <p:nvPr/>
          </p:nvSpPr>
          <p:spPr>
            <a:xfrm>
              <a:off x="6985080" y="6189840"/>
              <a:ext cx="232200" cy="76680"/>
            </a:xfrm>
            <a:custGeom>
              <a:avLst/>
              <a:gdLst/>
              <a:ahLst/>
              <a:rect l="0" t="0" r="r" b="b"/>
              <a:pathLst>
                <a:path w="645" h="213">
                  <a:moveTo>
                    <a:pt x="645" y="106"/>
                  </a:moveTo>
                  <a:lnTo>
                    <a:pt x="0" y="213"/>
                  </a:lnTo>
                  <a:lnTo>
                    <a:pt x="0" y="106"/>
                  </a:lnTo>
                  <a:lnTo>
                    <a:pt x="0" y="0"/>
                  </a:lnTo>
                  <a:lnTo>
                    <a:pt x="645" y="1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902280" y="6230880"/>
              <a:ext cx="82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902280" y="6727680"/>
            <a:ext cx="315000" cy="76680"/>
            <a:chOff x="6902280" y="6727680"/>
            <a:chExt cx="315000" cy="76680"/>
          </a:xfrm>
        </p:grpSpPr>
        <p:sp>
          <p:nvSpPr>
            <p:cNvPr id="436" name=""/>
            <p:cNvSpPr/>
            <p:nvPr/>
          </p:nvSpPr>
          <p:spPr>
            <a:xfrm>
              <a:off x="6985080" y="6727680"/>
              <a:ext cx="232200" cy="76680"/>
            </a:xfrm>
            <a:custGeom>
              <a:avLst/>
              <a:gdLst/>
              <a:ahLst/>
              <a:rect l="0" t="0" r="r" b="b"/>
              <a:pathLst>
                <a:path w="645" h="213">
                  <a:moveTo>
                    <a:pt x="645" y="106"/>
                  </a:moveTo>
                  <a:lnTo>
                    <a:pt x="0" y="213"/>
                  </a:lnTo>
                  <a:lnTo>
                    <a:pt x="0" y="106"/>
                  </a:lnTo>
                  <a:lnTo>
                    <a:pt x="0" y="0"/>
                  </a:lnTo>
                  <a:lnTo>
                    <a:pt x="645" y="1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02280" y="6770520"/>
              <a:ext cx="82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902280" y="7257960"/>
            <a:ext cx="315000" cy="74880"/>
            <a:chOff x="6902280" y="7257960"/>
            <a:chExt cx="315000" cy="74880"/>
          </a:xfrm>
        </p:grpSpPr>
        <p:sp>
          <p:nvSpPr>
            <p:cNvPr id="439" name=""/>
            <p:cNvSpPr/>
            <p:nvPr/>
          </p:nvSpPr>
          <p:spPr>
            <a:xfrm>
              <a:off x="6985080" y="7257960"/>
              <a:ext cx="232200" cy="74880"/>
            </a:xfrm>
            <a:custGeom>
              <a:avLst/>
              <a:gdLst/>
              <a:ahLst/>
              <a:rect l="0" t="0" r="r" b="b"/>
              <a:pathLst>
                <a:path w="645" h="208">
                  <a:moveTo>
                    <a:pt x="645" y="103"/>
                  </a:moveTo>
                  <a:lnTo>
                    <a:pt x="0" y="208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645" y="10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02280" y="7299360"/>
              <a:ext cx="82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663560" y="6407280"/>
            <a:ext cx="2387880" cy="74880"/>
            <a:chOff x="1663560" y="6407280"/>
            <a:chExt cx="2387880" cy="74880"/>
          </a:xfrm>
        </p:grpSpPr>
        <p:sp>
          <p:nvSpPr>
            <p:cNvPr id="442" name=""/>
            <p:cNvSpPr/>
            <p:nvPr/>
          </p:nvSpPr>
          <p:spPr>
            <a:xfrm>
              <a:off x="3821040" y="6407280"/>
              <a:ext cx="230400" cy="74880"/>
            </a:xfrm>
            <a:custGeom>
              <a:avLst/>
              <a:gdLst/>
              <a:ahLst/>
              <a:rect l="0" t="0" r="r" b="b"/>
              <a:pathLst>
                <a:path w="640" h="208">
                  <a:moveTo>
                    <a:pt x="640" y="103"/>
                  </a:moveTo>
                  <a:lnTo>
                    <a:pt x="0" y="208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640" y="10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63560" y="6448320"/>
              <a:ext cx="2157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822240" y="6615000"/>
            <a:ext cx="3229200" cy="76680"/>
            <a:chOff x="822240" y="6615000"/>
            <a:chExt cx="3229200" cy="76680"/>
          </a:xfrm>
        </p:grpSpPr>
        <p:sp>
          <p:nvSpPr>
            <p:cNvPr id="445" name=""/>
            <p:cNvSpPr/>
            <p:nvPr/>
          </p:nvSpPr>
          <p:spPr>
            <a:xfrm>
              <a:off x="3821040" y="6615000"/>
              <a:ext cx="230400" cy="76680"/>
            </a:xfrm>
            <a:custGeom>
              <a:avLst/>
              <a:gdLst/>
              <a:ahLst/>
              <a:rect l="0" t="0" r="r" b="b"/>
              <a:pathLst>
                <a:path w="640" h="213">
                  <a:moveTo>
                    <a:pt x="640" y="106"/>
                  </a:moveTo>
                  <a:lnTo>
                    <a:pt x="0" y="213"/>
                  </a:lnTo>
                  <a:lnTo>
                    <a:pt x="0" y="106"/>
                  </a:lnTo>
                  <a:lnTo>
                    <a:pt x="0" y="0"/>
                  </a:lnTo>
                  <a:lnTo>
                    <a:pt x="640" y="1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22240" y="6656400"/>
              <a:ext cx="299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 flipV="1">
            <a:off x="822240" y="630864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663560" y="6291360"/>
            <a:ext cx="0" cy="15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222640" y="5607000"/>
            <a:ext cx="988920" cy="74880"/>
            <a:chOff x="2222640" y="5607000"/>
            <a:chExt cx="988920" cy="74880"/>
          </a:xfrm>
        </p:grpSpPr>
        <p:sp>
          <p:nvSpPr>
            <p:cNvPr id="450" name=""/>
            <p:cNvSpPr/>
            <p:nvPr/>
          </p:nvSpPr>
          <p:spPr>
            <a:xfrm>
              <a:off x="2222640" y="5607000"/>
              <a:ext cx="230400" cy="74880"/>
            </a:xfrm>
            <a:custGeom>
              <a:avLst/>
              <a:gdLst/>
              <a:ahLst/>
              <a:rect l="0" t="0" r="r" b="b"/>
              <a:pathLst>
                <a:path w="640" h="208">
                  <a:moveTo>
                    <a:pt x="0" y="103"/>
                  </a:moveTo>
                  <a:lnTo>
                    <a:pt x="640" y="0"/>
                  </a:lnTo>
                  <a:lnTo>
                    <a:pt x="640" y="103"/>
                  </a:lnTo>
                  <a:lnTo>
                    <a:pt x="640" y="208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52680" y="564840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3672000" y="4916520"/>
            <a:ext cx="3643560" cy="727560"/>
          </a:xfrm>
          <a:custGeom>
            <a:avLst/>
            <a:gdLst/>
            <a:ahLst/>
            <a:rect l="0" t="0" r="r" b="b"/>
            <a:pathLst>
              <a:path fill="none" w="10121" h="2021">
                <a:moveTo>
                  <a:pt x="0" y="2021"/>
                </a:moveTo>
                <a:lnTo>
                  <a:pt x="0" y="0"/>
                </a:lnTo>
                <a:lnTo>
                  <a:pt x="1012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7315200" y="4921200"/>
            <a:ext cx="0" cy="13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83440" y="623088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11560" y="5648400"/>
            <a:ext cx="460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60800" y="41464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152360" y="4146480"/>
            <a:ext cx="2008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054080" y="3859200"/>
            <a:ext cx="132120" cy="425520"/>
            <a:chOff x="1054080" y="3859200"/>
            <a:chExt cx="132120" cy="425520"/>
          </a:xfrm>
        </p:grpSpPr>
        <p:sp>
          <p:nvSpPr>
            <p:cNvPr id="459" name=""/>
            <p:cNvSpPr/>
            <p:nvPr/>
          </p:nvSpPr>
          <p:spPr>
            <a:xfrm>
              <a:off x="1054080" y="3859200"/>
              <a:ext cx="132120" cy="162360"/>
            </a:xfrm>
            <a:custGeom>
              <a:avLst/>
              <a:gdLst/>
              <a:ahLst/>
              <a:rect l="0" t="0" r="r" b="b"/>
              <a:pathLst>
                <a:path w="367" h="451">
                  <a:moveTo>
                    <a:pt x="183" y="0"/>
                  </a:moveTo>
                  <a:lnTo>
                    <a:pt x="367" y="451"/>
                  </a:lnTo>
                  <a:lnTo>
                    <a:pt x="183" y="451"/>
                  </a:lnTo>
                  <a:lnTo>
                    <a:pt x="0" y="451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103400" y="4021200"/>
              <a:ext cx="0" cy="263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054080" y="4605480"/>
            <a:ext cx="132120" cy="452520"/>
            <a:chOff x="1054080" y="4605480"/>
            <a:chExt cx="132120" cy="452520"/>
          </a:xfrm>
        </p:grpSpPr>
        <p:sp>
          <p:nvSpPr>
            <p:cNvPr id="462" name=""/>
            <p:cNvSpPr/>
            <p:nvPr/>
          </p:nvSpPr>
          <p:spPr>
            <a:xfrm>
              <a:off x="1054080" y="4897440"/>
              <a:ext cx="132120" cy="160560"/>
            </a:xfrm>
            <a:custGeom>
              <a:avLst/>
              <a:gdLst/>
              <a:ahLst/>
              <a:rect l="0" t="0" r="r" b="b"/>
              <a:pathLst>
                <a:path w="367" h="446">
                  <a:moveTo>
                    <a:pt x="183" y="446"/>
                  </a:moveTo>
                  <a:lnTo>
                    <a:pt x="0" y="0"/>
                  </a:lnTo>
                  <a:lnTo>
                    <a:pt x="183" y="0"/>
                  </a:lnTo>
                  <a:lnTo>
                    <a:pt x="367" y="0"/>
                  </a:lnTo>
                  <a:lnTo>
                    <a:pt x="183" y="44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103400" y="4605480"/>
              <a:ext cx="0" cy="291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92120" y="3151080"/>
            <a:ext cx="2158920" cy="5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76120" y="4187880"/>
            <a:ext cx="2017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/Ècri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76120" y="4329000"/>
            <a:ext cx="1044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1357200" y="4962600"/>
            <a:ext cx="11858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976320" y="510372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976320" y="524664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1357200" y="5386320"/>
            <a:ext cx="1270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i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841400" y="6783480"/>
            <a:ext cx="11858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841400" y="692460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841400" y="706608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841400" y="7205760"/>
            <a:ext cx="1157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875120" y="4962600"/>
            <a:ext cx="1913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/sub flot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826160" y="5499000"/>
            <a:ext cx="1560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 flot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908600" y="6027840"/>
            <a:ext cx="1454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  flot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5154480" y="6567480"/>
            <a:ext cx="1249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A ent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5288040" y="7102440"/>
            <a:ext cx="1073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74840" y="4913280"/>
            <a:ext cx="1177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eu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523800" y="6037200"/>
            <a:ext cx="119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eur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1662120" y="3932280"/>
            <a:ext cx="1841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t par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90480" y="3095640"/>
            <a:ext cx="214164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71560" y="3048120"/>
            <a:ext cx="2141640" cy="5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35000" y="3168720"/>
            <a:ext cx="1171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m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035000" y="3386160"/>
            <a:ext cx="1128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-9360" y="3757680"/>
            <a:ext cx="743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des vecteurs de longueurs L = 64, taille des registres vectori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1228680" y="4245120"/>
            <a:ext cx="2816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me sca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6360" y="4640400"/>
            <a:ext cx="1843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1228680" y="4830840"/>
            <a:ext cx="1843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1228680" y="5326200"/>
            <a:ext cx="1454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           F0,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1228680" y="5059440"/>
            <a:ext cx="4361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      R4, Rx, #512    ; dernière adresse à l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1228680" y="5402160"/>
            <a:ext cx="1843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1228680" y="5592600"/>
            <a:ext cx="4133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           F2, 0(Rx)          ; chargement de X(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1228680" y="5783400"/>
            <a:ext cx="36496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D  F2, F0, F2        ; calcul a x X(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1228680" y="6049800"/>
            <a:ext cx="40831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           F4, 0(Ry)         ; chargement de Y(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1228680" y="6316560"/>
            <a:ext cx="36291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D     F4, F2, F4        ; a x X(i) + Y(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-1228680" y="6583320"/>
            <a:ext cx="39196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            F4, 0(Ry)         ; rangement à Y(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1228680" y="6773760"/>
            <a:ext cx="3519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      Rx, Rx, #8        ; suivant de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1228680" y="7040520"/>
            <a:ext cx="3519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      Ry, Ry, #8        ; suivant de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1228680" y="7307280"/>
            <a:ext cx="39258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         R20, R4, Rx    ; calcul de la li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1228680" y="7574040"/>
            <a:ext cx="1882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NZ         R20,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1876320" y="5529240"/>
            <a:ext cx="6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041720" y="4130640"/>
            <a:ext cx="29336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me vecto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114720" y="5059440"/>
            <a:ext cx="52689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              F0, a                           ; chargement du scalaire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114720" y="5249880"/>
            <a:ext cx="52642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V              V1, Rx                        ; chargement du vecteur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114720" y="5516640"/>
            <a:ext cx="57592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SV  V2, F0,V1                   ; multiplication scalaire-vec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114720" y="5707080"/>
            <a:ext cx="52642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V              V3, Ry                        ; chargement du vecteur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114720" y="5973840"/>
            <a:ext cx="47721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V        V4, V2, V3                 ; addition vectori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114720" y="6240600"/>
            <a:ext cx="5021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               Ry, V4                       ; rangement du résul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-1863720" y="267984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1863720" y="316224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-187200" y="2522520"/>
            <a:ext cx="73040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720720" y="2700360"/>
            <a:ext cx="7810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a  *  X  + Y avec X et Y vecteurs et a sca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24080" y="4343400"/>
            <a:ext cx="0" cy="3886200"/>
          </a:xfrm>
          <a:prstGeom prst="line">
            <a:avLst/>
          </a:prstGeom>
          <a:ln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-1158840" y="7954920"/>
            <a:ext cx="3379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Exécution de 578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632480" y="7954920"/>
            <a:ext cx="3125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Exécution de 6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-1104840" y="2362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MD à mémoire partagé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1181160" y="3809880"/>
            <a:ext cx="91803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-225360" y="35812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-1104840" y="25146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MD à mémoire distribué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1181160" y="3809880"/>
            <a:ext cx="91803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-1065240" y="3657600"/>
            <a:ext cx="8915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-304920" y="4308480"/>
            <a:ext cx="6707520" cy="3603600"/>
            <a:chOff x="-304920" y="4308480"/>
            <a:chExt cx="6707520" cy="3603600"/>
          </a:xfrm>
        </p:grpSpPr>
        <p:sp>
          <p:nvSpPr>
            <p:cNvPr id="525" name=""/>
            <p:cNvSpPr txBox="1"/>
            <p:nvPr/>
          </p:nvSpPr>
          <p:spPr>
            <a:xfrm>
              <a:off x="79200" y="4308480"/>
              <a:ext cx="38210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 k:= 0 step 1 until n-2 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 txBox="1"/>
            <p:nvPr/>
          </p:nvSpPr>
          <p:spPr>
            <a:xfrm>
              <a:off x="79200" y="4549680"/>
              <a:ext cx="1843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79200" y="479124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316080" y="4791240"/>
              <a:ext cx="14288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k n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>
              <a:off x="79200" y="5108400"/>
              <a:ext cx="16876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:= n-1 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9200" y="5273640"/>
              <a:ext cx="1843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79200" y="5514840"/>
              <a:ext cx="52340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xt :          For i:= 0 step 1 until n-1 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1523880" y="5527800"/>
              <a:ext cx="19051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[i,k] := 0 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-304920" y="6302520"/>
              <a:ext cx="65530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 j:= 0 step 1 until n-1 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 txBox="1"/>
            <p:nvPr/>
          </p:nvSpPr>
          <p:spPr>
            <a:xfrm>
              <a:off x="3240" y="6696000"/>
              <a:ext cx="639936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[i,k] := C [i,k] + A[i, j] * B[j, k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79200" y="648000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625320" y="7089840"/>
              <a:ext cx="12175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oin N 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 txBox="1"/>
          <p:nvPr/>
        </p:nvSpPr>
        <p:spPr>
          <a:xfrm>
            <a:off x="-797040" y="2928960"/>
            <a:ext cx="8155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= A  *  B  matrices n x n : distribution des tâ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-1028880" y="2133720"/>
            <a:ext cx="92584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es trois paramètres des calculateurs parallè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1181160" y="3809880"/>
            <a:ext cx="91803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les latenc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accéder au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nce de la hiérarchie mémoire (caches, mémoire centrale, disque, réseau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la vitesse de transfer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données d’une tâche s'exécutant dans un processeur vers une tâche d’un autre processeu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la performan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aire du processeur (MFLO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0" y="2392200"/>
            <a:ext cx="7543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e coût d’une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-1447920" y="3962520"/>
            <a:ext cx="9982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-304920" y="3809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467480" y="3809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53280" y="3809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534520" y="3809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-1371600" y="4327560"/>
            <a:ext cx="457200" cy="473040"/>
            <a:chOff x="-1371600" y="4327560"/>
            <a:chExt cx="457200" cy="473040"/>
          </a:xfrm>
        </p:grpSpPr>
        <p:sp>
          <p:nvSpPr>
            <p:cNvPr id="547" name=""/>
            <p:cNvSpPr/>
            <p:nvPr/>
          </p:nvSpPr>
          <p:spPr>
            <a:xfrm>
              <a:off x="-1371600" y="43434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 txBox="1"/>
            <p:nvPr/>
          </p:nvSpPr>
          <p:spPr>
            <a:xfrm>
              <a:off x="-1311120" y="432756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-1371600" y="556272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1311120" y="5546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-1371600" y="617220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1311120" y="61563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-1371600" y="6765840"/>
            <a:ext cx="457200" cy="473040"/>
            <a:chOff x="-1371600" y="6765840"/>
            <a:chExt cx="457200" cy="473040"/>
          </a:xfrm>
        </p:grpSpPr>
        <p:sp>
          <p:nvSpPr>
            <p:cNvPr id="554" name=""/>
            <p:cNvSpPr/>
            <p:nvPr/>
          </p:nvSpPr>
          <p:spPr>
            <a:xfrm>
              <a:off x="-1371600" y="6781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 txBox="1"/>
            <p:nvPr/>
          </p:nvSpPr>
          <p:spPr>
            <a:xfrm>
              <a:off x="-1311120" y="676584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-1371600" y="7375680"/>
            <a:ext cx="457200" cy="473040"/>
            <a:chOff x="-1371600" y="7375680"/>
            <a:chExt cx="457200" cy="473040"/>
          </a:xfrm>
        </p:grpSpPr>
        <p:sp>
          <p:nvSpPr>
            <p:cNvPr id="557" name=""/>
            <p:cNvSpPr/>
            <p:nvPr/>
          </p:nvSpPr>
          <p:spPr>
            <a:xfrm>
              <a:off x="-1371600" y="7391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 txBox="1"/>
            <p:nvPr/>
          </p:nvSpPr>
          <p:spPr>
            <a:xfrm>
              <a:off x="-1311120" y="73756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 txBox="1"/>
          <p:nvPr/>
        </p:nvSpPr>
        <p:spPr>
          <a:xfrm>
            <a:off x="-701640" y="4327560"/>
            <a:ext cx="637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tteur place le message dans un buffer de so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701640" y="4937040"/>
            <a:ext cx="789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paration des paquets et transfert dans une file pour é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625320" y="5546880"/>
            <a:ext cx="4433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 du handler de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625320" y="6232680"/>
            <a:ext cx="4383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écution du handler de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549360" y="6842160"/>
            <a:ext cx="648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s d’occupation de la bande passante du rés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549360" y="7451640"/>
            <a:ext cx="5262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s d’occupation du support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-1371600" y="4937040"/>
            <a:ext cx="457200" cy="473040"/>
            <a:chOff x="-1371600" y="4937040"/>
            <a:chExt cx="457200" cy="473040"/>
          </a:xfrm>
        </p:grpSpPr>
        <p:sp>
          <p:nvSpPr>
            <p:cNvPr id="566" name=""/>
            <p:cNvSpPr/>
            <p:nvPr/>
          </p:nvSpPr>
          <p:spPr>
            <a:xfrm>
              <a:off x="-1371600" y="49528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 txBox="1"/>
            <p:nvPr/>
          </p:nvSpPr>
          <p:spPr>
            <a:xfrm>
              <a:off x="-1311120" y="493704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-1143000" y="3413160"/>
            <a:ext cx="457200" cy="473040"/>
            <a:chOff x="-1143000" y="3413160"/>
            <a:chExt cx="457200" cy="473040"/>
          </a:xfrm>
        </p:grpSpPr>
        <p:sp>
          <p:nvSpPr>
            <p:cNvPr id="569" name=""/>
            <p:cNvSpPr/>
            <p:nvPr/>
          </p:nvSpPr>
          <p:spPr>
            <a:xfrm>
              <a:off x="-1143000" y="34290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 txBox="1"/>
            <p:nvPr/>
          </p:nvSpPr>
          <p:spPr>
            <a:xfrm>
              <a:off x="-1082520" y="341316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85800" y="3413160"/>
            <a:ext cx="457200" cy="473040"/>
            <a:chOff x="685800" y="3413160"/>
            <a:chExt cx="457200" cy="473040"/>
          </a:xfrm>
        </p:grpSpPr>
        <p:sp>
          <p:nvSpPr>
            <p:cNvPr id="572" name=""/>
            <p:cNvSpPr/>
            <p:nvPr/>
          </p:nvSpPr>
          <p:spPr>
            <a:xfrm>
              <a:off x="685800" y="34290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 txBox="1"/>
            <p:nvPr/>
          </p:nvSpPr>
          <p:spPr>
            <a:xfrm>
              <a:off x="746280" y="341316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267080" y="3413160"/>
            <a:ext cx="457200" cy="473040"/>
            <a:chOff x="4267080" y="3413160"/>
            <a:chExt cx="457200" cy="473040"/>
          </a:xfrm>
        </p:grpSpPr>
        <p:sp>
          <p:nvSpPr>
            <p:cNvPr id="575" name=""/>
            <p:cNvSpPr/>
            <p:nvPr/>
          </p:nvSpPr>
          <p:spPr>
            <a:xfrm>
              <a:off x="4267080" y="34290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4327560" y="341316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6781680" y="335268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42160" y="33368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7543800" y="3360600"/>
            <a:ext cx="457200" cy="484560"/>
            <a:chOff x="7543800" y="3360600"/>
            <a:chExt cx="457200" cy="484560"/>
          </a:xfrm>
        </p:grpSpPr>
        <p:sp>
          <p:nvSpPr>
            <p:cNvPr id="580" name=""/>
            <p:cNvSpPr/>
            <p:nvPr/>
          </p:nvSpPr>
          <p:spPr>
            <a:xfrm>
              <a:off x="7543800" y="3373560"/>
              <a:ext cx="457200" cy="4716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 txBox="1"/>
            <p:nvPr/>
          </p:nvSpPr>
          <p:spPr>
            <a:xfrm>
              <a:off x="7604280" y="336060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8153280" y="3336840"/>
            <a:ext cx="457200" cy="473040"/>
            <a:chOff x="8153280" y="3336840"/>
            <a:chExt cx="457200" cy="473040"/>
          </a:xfrm>
        </p:grpSpPr>
        <p:sp>
          <p:nvSpPr>
            <p:cNvPr id="583" name=""/>
            <p:cNvSpPr/>
            <p:nvPr/>
          </p:nvSpPr>
          <p:spPr>
            <a:xfrm>
              <a:off x="8153280" y="3352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 txBox="1"/>
            <p:nvPr/>
          </p:nvSpPr>
          <p:spPr>
            <a:xfrm>
              <a:off x="8213760" y="333684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2057400" y="3809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781680" y="3809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-1295280" y="6934320"/>
            <a:ext cx="624852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1104840" y="22860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930240" y="3565440"/>
            <a:ext cx="54579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eur 500 Mhz : une instruction/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eau : BP 2 Gb.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s : 1 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-1447920" y="5165640"/>
            <a:ext cx="10074240" cy="1067040"/>
            <a:chOff x="-1447920" y="5165640"/>
            <a:chExt cx="10074240" cy="1067040"/>
          </a:xfrm>
        </p:grpSpPr>
        <p:sp>
          <p:nvSpPr>
            <p:cNvPr id="591" name=""/>
            <p:cNvSpPr/>
            <p:nvPr/>
          </p:nvSpPr>
          <p:spPr>
            <a:xfrm>
              <a:off x="-1447920" y="5715000"/>
              <a:ext cx="9982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-304920" y="5562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67480" y="5562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153280" y="5562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534520" y="5562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-1143000" y="5165640"/>
              <a:ext cx="457200" cy="473040"/>
              <a:chOff x="-1143000" y="5165640"/>
              <a:chExt cx="457200" cy="473040"/>
            </a:xfrm>
          </p:grpSpPr>
          <p:sp>
            <p:nvSpPr>
              <p:cNvPr id="597" name=""/>
              <p:cNvSpPr/>
              <p:nvPr/>
            </p:nvSpPr>
            <p:spPr>
              <a:xfrm>
                <a:off x="-1143000" y="5181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 txBox="1"/>
              <p:nvPr/>
            </p:nvSpPr>
            <p:spPr>
              <a:xfrm>
                <a:off x="-1082520" y="5165640"/>
                <a:ext cx="3366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685800" y="5165640"/>
              <a:ext cx="457200" cy="473040"/>
              <a:chOff x="685800" y="5165640"/>
              <a:chExt cx="457200" cy="473040"/>
            </a:xfrm>
          </p:grpSpPr>
          <p:sp>
            <p:nvSpPr>
              <p:cNvPr id="600" name=""/>
              <p:cNvSpPr/>
              <p:nvPr/>
            </p:nvSpPr>
            <p:spPr>
              <a:xfrm>
                <a:off x="685800" y="5181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 txBox="1"/>
              <p:nvPr/>
            </p:nvSpPr>
            <p:spPr>
              <a:xfrm>
                <a:off x="746280" y="5165640"/>
                <a:ext cx="3366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4267080" y="5165640"/>
              <a:ext cx="457200" cy="473040"/>
              <a:chOff x="4267080" y="5165640"/>
              <a:chExt cx="457200" cy="473040"/>
            </a:xfrm>
          </p:grpSpPr>
          <p:sp>
            <p:nvSpPr>
              <p:cNvPr id="603" name=""/>
              <p:cNvSpPr/>
              <p:nvPr/>
            </p:nvSpPr>
            <p:spPr>
              <a:xfrm>
                <a:off x="4267080" y="5181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 txBox="1"/>
              <p:nvPr/>
            </p:nvSpPr>
            <p:spPr>
              <a:xfrm>
                <a:off x="4327560" y="5165640"/>
                <a:ext cx="3366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6858000" y="51814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 txBox="1"/>
            <p:nvPr/>
          </p:nvSpPr>
          <p:spPr>
            <a:xfrm>
              <a:off x="6918480" y="516564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7543800" y="5186520"/>
              <a:ext cx="457200" cy="457200"/>
              <a:chOff x="7543800" y="5186520"/>
              <a:chExt cx="457200" cy="457200"/>
            </a:xfrm>
          </p:grpSpPr>
          <p:sp>
            <p:nvSpPr>
              <p:cNvPr id="608" name=""/>
              <p:cNvSpPr/>
              <p:nvPr/>
            </p:nvSpPr>
            <p:spPr>
              <a:xfrm>
                <a:off x="7543800" y="5200560"/>
                <a:ext cx="457200" cy="4381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 txBox="1"/>
              <p:nvPr/>
            </p:nvSpPr>
            <p:spPr>
              <a:xfrm>
                <a:off x="7604280" y="5186520"/>
                <a:ext cx="3366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8153280" y="5165640"/>
              <a:ext cx="457200" cy="473040"/>
              <a:chOff x="8153280" y="5165640"/>
              <a:chExt cx="457200" cy="473040"/>
            </a:xfrm>
          </p:grpSpPr>
          <p:sp>
            <p:nvSpPr>
              <p:cNvPr id="611" name=""/>
              <p:cNvSpPr/>
              <p:nvPr/>
            </p:nvSpPr>
            <p:spPr>
              <a:xfrm>
                <a:off x="8153280" y="5181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>
                <a:off x="8213760" y="5165640"/>
                <a:ext cx="3366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2057400" y="5562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81680" y="5562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-1387440" y="577548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289080" y="5775480"/>
              <a:ext cx="870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 txBox="1"/>
            <p:nvPr/>
          </p:nvSpPr>
          <p:spPr>
            <a:xfrm>
              <a:off x="3870360" y="5775480"/>
              <a:ext cx="870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0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 txBox="1"/>
            <p:nvPr/>
          </p:nvSpPr>
          <p:spPr>
            <a:xfrm>
              <a:off x="6842160" y="577548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 txBox="1"/>
            <p:nvPr/>
          </p:nvSpPr>
          <p:spPr>
            <a:xfrm>
              <a:off x="7451640" y="577548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>
              <a:off x="8137440" y="577548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 txBox="1"/>
          <p:nvPr/>
        </p:nvSpPr>
        <p:spPr>
          <a:xfrm>
            <a:off x="-1235160" y="6994440"/>
            <a:ext cx="583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ût de la communication : 3.968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-1600200" y="2057400"/>
            <a:ext cx="10134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1600200" y="1905120"/>
            <a:ext cx="9563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lcul du temps d’exécution en parallè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1692360" y="3260880"/>
            <a:ext cx="1030284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Tseq + T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e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 le temps d’exécution dans chaque process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 temps de LA MESSAGER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n * g + Nc (Ts + Lc*T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nombre de “ paquets ” d’instructions dans chaque process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nombre d’instructions par “ paquets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nombre de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temps d’établissement de la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longueur du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temps d’émission par octets trans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28600" y="251460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n de la 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1181160" y="3809880"/>
            <a:ext cx="91803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Zapf Dingba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modèles de programmation et d’exé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Zapf Dingba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types de parallél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moire Distribu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moire Partag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Zapf Dingba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grammation des calculateurs parallè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Zapf Dingba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Multith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Zapf Dingba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évolutions prévi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04920" y="3657600"/>
            <a:ext cx="5410080" cy="838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853920" y="2422440"/>
            <a:ext cx="7851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xécution et communication peuvent être recouvertes alor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max ( n*g + Nc*Ts, Nc*Lc*T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-549360" y="4708440"/>
            <a:ext cx="70977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e IBM/S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 = 39 mic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b = 0,028 mic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. du proc. = 328 Mflops/s. =&gt; 328 inst.flot/mic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777960" y="6613560"/>
            <a:ext cx="93391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prenant 2 messages par flots (Nc =2) et Lc=1024 oct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max (n*g + 78, 57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n*g + 78 micros.   =&gt; latence équivaut à 328*78 = 25.000 instru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-1905120" y="3962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mp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495680" y="3200400"/>
            <a:ext cx="3810240" cy="2130120"/>
            <a:chOff x="4495680" y="3200400"/>
            <a:chExt cx="3810240" cy="2130120"/>
          </a:xfrm>
        </p:grpSpPr>
        <p:pic>
          <p:nvPicPr>
            <p:cNvPr id="631" name="" descr=""/>
            <p:cNvPicPr/>
            <p:nvPr/>
          </p:nvPicPr>
          <p:blipFill>
            <a:blip r:embed="rId1"/>
            <a:stretch/>
          </p:blipFill>
          <p:spPr>
            <a:xfrm>
              <a:off x="4495680" y="3654360"/>
              <a:ext cx="86688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2"/>
            <a:stretch/>
          </p:blipFill>
          <p:spPr>
            <a:xfrm>
              <a:off x="5313240" y="3200400"/>
              <a:ext cx="70488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3"/>
            <a:stretch/>
          </p:blipFill>
          <p:spPr>
            <a:xfrm>
              <a:off x="6400800" y="3230640"/>
              <a:ext cx="66348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4"/>
            <a:stretch/>
          </p:blipFill>
          <p:spPr>
            <a:xfrm>
              <a:off x="7359480" y="3260880"/>
              <a:ext cx="663480" cy="5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" descr=""/>
            <p:cNvPicPr/>
            <p:nvPr/>
          </p:nvPicPr>
          <p:blipFill>
            <a:blip r:embed="rId5"/>
            <a:stretch/>
          </p:blipFill>
          <p:spPr>
            <a:xfrm>
              <a:off x="7640640" y="4002120"/>
              <a:ext cx="665280" cy="5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" descr=""/>
            <p:cNvPicPr/>
            <p:nvPr/>
          </p:nvPicPr>
          <p:blipFill>
            <a:blip r:embed="rId6"/>
            <a:stretch/>
          </p:blipFill>
          <p:spPr>
            <a:xfrm>
              <a:off x="6710400" y="4775040"/>
              <a:ext cx="662040" cy="5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" descr=""/>
            <p:cNvPicPr/>
            <p:nvPr/>
          </p:nvPicPr>
          <p:blipFill>
            <a:blip r:embed="rId7"/>
            <a:stretch/>
          </p:blipFill>
          <p:spPr>
            <a:xfrm>
              <a:off x="5778360" y="4656240"/>
              <a:ext cx="663480" cy="5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" descr=""/>
            <p:cNvPicPr/>
            <p:nvPr/>
          </p:nvPicPr>
          <p:blipFill>
            <a:blip r:embed="rId8"/>
            <a:stretch/>
          </p:blipFill>
          <p:spPr>
            <a:xfrm>
              <a:off x="4819680" y="4626000"/>
              <a:ext cx="663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 flipH="1">
              <a:off x="5934240" y="3763800"/>
              <a:ext cx="87444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5200560" y="3794040"/>
              <a:ext cx="733680" cy="17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200560" y="3824280"/>
              <a:ext cx="2144880" cy="177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00560" y="4002120"/>
              <a:ext cx="2568600" cy="35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173560" y="4030560"/>
              <a:ext cx="1860480" cy="712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00560" y="4062240"/>
              <a:ext cx="733680" cy="56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43680" y="4329000"/>
              <a:ext cx="141120" cy="29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13240" y="3794040"/>
              <a:ext cx="479520" cy="83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21200" y="3794040"/>
              <a:ext cx="282600" cy="86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50000" y="3824280"/>
              <a:ext cx="1241280" cy="9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78440" y="3824280"/>
              <a:ext cx="1919520" cy="474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05440" y="3794040"/>
              <a:ext cx="146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37480" y="3763800"/>
              <a:ext cx="311040" cy="1011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07400" y="3763800"/>
              <a:ext cx="761760" cy="357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6161040" y="3763800"/>
              <a:ext cx="534960" cy="892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7120080" y="3824280"/>
              <a:ext cx="536400" cy="9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6243480" y="3824280"/>
              <a:ext cx="1327320" cy="801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5342040" y="3824280"/>
              <a:ext cx="2173320" cy="890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342040" y="3763800"/>
              <a:ext cx="1214280" cy="1128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-1446120" y="5546880"/>
            <a:ext cx="4494240" cy="2442960"/>
            <a:chOff x="-1446120" y="5546880"/>
            <a:chExt cx="4494240" cy="2442960"/>
          </a:xfrm>
        </p:grpSpPr>
        <p:pic>
          <p:nvPicPr>
            <p:cNvPr id="659" name="" descr=""/>
            <p:cNvPicPr/>
            <p:nvPr/>
          </p:nvPicPr>
          <p:blipFill>
            <a:blip r:embed="rId9"/>
            <a:stretch/>
          </p:blipFill>
          <p:spPr>
            <a:xfrm>
              <a:off x="-628560" y="7469280"/>
              <a:ext cx="78120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10"/>
            <a:stretch/>
          </p:blipFill>
          <p:spPr>
            <a:xfrm>
              <a:off x="223920" y="7469280"/>
              <a:ext cx="78264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11"/>
            <a:stretch/>
          </p:blipFill>
          <p:spPr>
            <a:xfrm>
              <a:off x="1079640" y="7505640"/>
              <a:ext cx="77940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12"/>
            <a:stretch/>
          </p:blipFill>
          <p:spPr>
            <a:xfrm>
              <a:off x="1935000" y="7505640"/>
              <a:ext cx="77940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-1262160" y="6912000"/>
              <a:ext cx="4087800" cy="371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-888840" y="728352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-34920" y="728352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20800" y="728352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73280" y="728352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527200" y="728352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9" name="" descr=""/>
            <p:cNvPicPr/>
            <p:nvPr/>
          </p:nvPicPr>
          <p:blipFill>
            <a:blip r:embed="rId13"/>
            <a:stretch/>
          </p:blipFill>
          <p:spPr>
            <a:xfrm>
              <a:off x="-1314360" y="6035760"/>
              <a:ext cx="4143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14"/>
            <a:stretch/>
          </p:blipFill>
          <p:spPr>
            <a:xfrm>
              <a:off x="-1238400" y="6110280"/>
              <a:ext cx="4143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15"/>
            <a:stretch/>
          </p:blipFill>
          <p:spPr>
            <a:xfrm>
              <a:off x="-1166760" y="6183360"/>
              <a:ext cx="41580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16"/>
            <a:stretch/>
          </p:blipFill>
          <p:spPr>
            <a:xfrm>
              <a:off x="-1092240" y="6257880"/>
              <a:ext cx="4176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" descr=""/>
            <p:cNvPicPr/>
            <p:nvPr/>
          </p:nvPicPr>
          <p:blipFill>
            <a:blip r:embed="rId17"/>
            <a:stretch/>
          </p:blipFill>
          <p:spPr>
            <a:xfrm>
              <a:off x="-1017720" y="6332400"/>
              <a:ext cx="415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" descr=""/>
            <p:cNvPicPr/>
            <p:nvPr/>
          </p:nvPicPr>
          <p:blipFill>
            <a:blip r:embed="rId18"/>
            <a:stretch/>
          </p:blipFill>
          <p:spPr>
            <a:xfrm>
              <a:off x="-944640" y="6407280"/>
              <a:ext cx="415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" descr=""/>
            <p:cNvPicPr/>
            <p:nvPr/>
          </p:nvPicPr>
          <p:blipFill>
            <a:blip r:embed="rId19"/>
            <a:stretch/>
          </p:blipFill>
          <p:spPr>
            <a:xfrm>
              <a:off x="-720720" y="6035760"/>
              <a:ext cx="4176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" descr=""/>
            <p:cNvPicPr/>
            <p:nvPr/>
          </p:nvPicPr>
          <p:blipFill>
            <a:blip r:embed="rId20"/>
            <a:stretch/>
          </p:blipFill>
          <p:spPr>
            <a:xfrm>
              <a:off x="-646200" y="6110280"/>
              <a:ext cx="415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" descr=""/>
            <p:cNvPicPr/>
            <p:nvPr/>
          </p:nvPicPr>
          <p:blipFill>
            <a:blip r:embed="rId21"/>
            <a:stretch/>
          </p:blipFill>
          <p:spPr>
            <a:xfrm>
              <a:off x="-571680" y="6183360"/>
              <a:ext cx="41436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" descr=""/>
            <p:cNvPicPr/>
            <p:nvPr/>
          </p:nvPicPr>
          <p:blipFill>
            <a:blip r:embed="rId22"/>
            <a:stretch/>
          </p:blipFill>
          <p:spPr>
            <a:xfrm>
              <a:off x="-496800" y="6257880"/>
              <a:ext cx="415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" descr=""/>
            <p:cNvPicPr/>
            <p:nvPr/>
          </p:nvPicPr>
          <p:blipFill>
            <a:blip r:embed="rId23"/>
            <a:stretch/>
          </p:blipFill>
          <p:spPr>
            <a:xfrm>
              <a:off x="-423720" y="6332400"/>
              <a:ext cx="415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" descr=""/>
            <p:cNvPicPr/>
            <p:nvPr/>
          </p:nvPicPr>
          <p:blipFill>
            <a:blip r:embed="rId24"/>
            <a:stretch/>
          </p:blipFill>
          <p:spPr>
            <a:xfrm>
              <a:off x="-347760" y="6407280"/>
              <a:ext cx="415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" descr=""/>
            <p:cNvPicPr/>
            <p:nvPr/>
          </p:nvPicPr>
          <p:blipFill>
            <a:blip r:embed="rId25"/>
            <a:stretch/>
          </p:blipFill>
          <p:spPr>
            <a:xfrm>
              <a:off x="-125280" y="6035760"/>
              <a:ext cx="415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" descr=""/>
            <p:cNvPicPr/>
            <p:nvPr/>
          </p:nvPicPr>
          <p:blipFill>
            <a:blip r:embed="rId26"/>
            <a:stretch/>
          </p:blipFill>
          <p:spPr>
            <a:xfrm>
              <a:off x="-52560" y="6110280"/>
              <a:ext cx="415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27"/>
            <a:stretch/>
          </p:blipFill>
          <p:spPr>
            <a:xfrm>
              <a:off x="23760" y="6183360"/>
              <a:ext cx="41580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" descr=""/>
            <p:cNvPicPr/>
            <p:nvPr/>
          </p:nvPicPr>
          <p:blipFill>
            <a:blip r:embed="rId28"/>
            <a:stretch/>
          </p:blipFill>
          <p:spPr>
            <a:xfrm>
              <a:off x="96840" y="6257880"/>
              <a:ext cx="4143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" descr=""/>
            <p:cNvPicPr/>
            <p:nvPr/>
          </p:nvPicPr>
          <p:blipFill>
            <a:blip r:embed="rId29"/>
            <a:stretch/>
          </p:blipFill>
          <p:spPr>
            <a:xfrm>
              <a:off x="171360" y="6332400"/>
              <a:ext cx="415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" descr=""/>
            <p:cNvPicPr/>
            <p:nvPr/>
          </p:nvPicPr>
          <p:blipFill>
            <a:blip r:embed="rId30"/>
            <a:stretch/>
          </p:blipFill>
          <p:spPr>
            <a:xfrm>
              <a:off x="246240" y="6407280"/>
              <a:ext cx="415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" descr=""/>
            <p:cNvPicPr/>
            <p:nvPr/>
          </p:nvPicPr>
          <p:blipFill>
            <a:blip r:embed="rId31"/>
            <a:stretch/>
          </p:blipFill>
          <p:spPr>
            <a:xfrm>
              <a:off x="468360" y="6035760"/>
              <a:ext cx="415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32"/>
            <a:stretch/>
          </p:blipFill>
          <p:spPr>
            <a:xfrm>
              <a:off x="542880" y="6110280"/>
              <a:ext cx="415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" descr=""/>
            <p:cNvPicPr/>
            <p:nvPr/>
          </p:nvPicPr>
          <p:blipFill>
            <a:blip r:embed="rId33"/>
            <a:stretch/>
          </p:blipFill>
          <p:spPr>
            <a:xfrm>
              <a:off x="617400" y="6183360"/>
              <a:ext cx="41436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" descr=""/>
            <p:cNvPicPr/>
            <p:nvPr/>
          </p:nvPicPr>
          <p:blipFill>
            <a:blip r:embed="rId34"/>
            <a:stretch/>
          </p:blipFill>
          <p:spPr>
            <a:xfrm>
              <a:off x="690480" y="6257880"/>
              <a:ext cx="415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" descr=""/>
            <p:cNvPicPr/>
            <p:nvPr/>
          </p:nvPicPr>
          <p:blipFill>
            <a:blip r:embed="rId35"/>
            <a:stretch/>
          </p:blipFill>
          <p:spPr>
            <a:xfrm>
              <a:off x="766800" y="6332400"/>
              <a:ext cx="415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" descr=""/>
            <p:cNvPicPr/>
            <p:nvPr/>
          </p:nvPicPr>
          <p:blipFill>
            <a:blip r:embed="rId36"/>
            <a:stretch/>
          </p:blipFill>
          <p:spPr>
            <a:xfrm>
              <a:off x="841320" y="6407280"/>
              <a:ext cx="4143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" descr=""/>
            <p:cNvPicPr/>
            <p:nvPr/>
          </p:nvPicPr>
          <p:blipFill>
            <a:blip r:embed="rId37"/>
            <a:stretch/>
          </p:blipFill>
          <p:spPr>
            <a:xfrm>
              <a:off x="1062000" y="6035760"/>
              <a:ext cx="4176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" descr=""/>
            <p:cNvPicPr/>
            <p:nvPr/>
          </p:nvPicPr>
          <p:blipFill>
            <a:blip r:embed="rId38"/>
            <a:stretch/>
          </p:blipFill>
          <p:spPr>
            <a:xfrm>
              <a:off x="1136520" y="6110280"/>
              <a:ext cx="415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" descr=""/>
            <p:cNvPicPr/>
            <p:nvPr/>
          </p:nvPicPr>
          <p:blipFill>
            <a:blip r:embed="rId39"/>
            <a:stretch/>
          </p:blipFill>
          <p:spPr>
            <a:xfrm>
              <a:off x="1211400" y="6183360"/>
              <a:ext cx="41580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" descr=""/>
            <p:cNvPicPr/>
            <p:nvPr/>
          </p:nvPicPr>
          <p:blipFill>
            <a:blip r:embed="rId40"/>
            <a:stretch/>
          </p:blipFill>
          <p:spPr>
            <a:xfrm>
              <a:off x="1287360" y="6257880"/>
              <a:ext cx="4143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" descr=""/>
            <p:cNvPicPr/>
            <p:nvPr/>
          </p:nvPicPr>
          <p:blipFill>
            <a:blip r:embed="rId41"/>
            <a:stretch/>
          </p:blipFill>
          <p:spPr>
            <a:xfrm>
              <a:off x="1360440" y="6332400"/>
              <a:ext cx="415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" descr=""/>
            <p:cNvPicPr/>
            <p:nvPr/>
          </p:nvPicPr>
          <p:blipFill>
            <a:blip r:embed="rId42"/>
            <a:stretch/>
          </p:blipFill>
          <p:spPr>
            <a:xfrm>
              <a:off x="1433520" y="6407280"/>
              <a:ext cx="4176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" descr=""/>
            <p:cNvPicPr/>
            <p:nvPr/>
          </p:nvPicPr>
          <p:blipFill>
            <a:blip r:embed="rId43"/>
            <a:stretch/>
          </p:blipFill>
          <p:spPr>
            <a:xfrm>
              <a:off x="1657440" y="6035760"/>
              <a:ext cx="415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" descr=""/>
            <p:cNvPicPr/>
            <p:nvPr/>
          </p:nvPicPr>
          <p:blipFill>
            <a:blip r:embed="rId44"/>
            <a:stretch/>
          </p:blipFill>
          <p:spPr>
            <a:xfrm>
              <a:off x="1731960" y="6110280"/>
              <a:ext cx="415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45"/>
            <a:stretch/>
          </p:blipFill>
          <p:spPr>
            <a:xfrm>
              <a:off x="1806480" y="6183360"/>
              <a:ext cx="41580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46"/>
            <a:stretch/>
          </p:blipFill>
          <p:spPr>
            <a:xfrm>
              <a:off x="1881360" y="6257880"/>
              <a:ext cx="415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47"/>
            <a:stretch/>
          </p:blipFill>
          <p:spPr>
            <a:xfrm>
              <a:off x="1954080" y="6332400"/>
              <a:ext cx="4158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" descr=""/>
            <p:cNvPicPr/>
            <p:nvPr/>
          </p:nvPicPr>
          <p:blipFill>
            <a:blip r:embed="rId48"/>
            <a:stretch/>
          </p:blipFill>
          <p:spPr>
            <a:xfrm>
              <a:off x="2030400" y="6407280"/>
              <a:ext cx="41436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-741240" y="672624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-73080" y="672624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85640" y="672624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16000" y="672624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12880" y="672624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43240" y="672624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-1427040" y="6019920"/>
              <a:ext cx="4475160" cy="196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2" name="" descr=""/>
            <p:cNvPicPr/>
            <p:nvPr/>
          </p:nvPicPr>
          <p:blipFill>
            <a:blip r:embed="rId49"/>
            <a:stretch/>
          </p:blipFill>
          <p:spPr>
            <a:xfrm>
              <a:off x="-1446120" y="7469280"/>
              <a:ext cx="77940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 txBox="1"/>
            <p:nvPr/>
          </p:nvSpPr>
          <p:spPr>
            <a:xfrm>
              <a:off x="-930240" y="5546880"/>
              <a:ext cx="2478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tement coupl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"/>
          <p:cNvSpPr txBox="1"/>
          <p:nvPr/>
        </p:nvSpPr>
        <p:spPr>
          <a:xfrm>
            <a:off x="6004080" y="2727360"/>
            <a:ext cx="2579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blement coup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-304920" y="579132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-838080" y="20574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eur  T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458640" y="6781680"/>
            <a:ext cx="1600200" cy="96840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2209680" y="6781680"/>
            <a:ext cx="1600200" cy="96840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3"/>
          <a:stretch/>
        </p:blipFill>
        <p:spPr>
          <a:xfrm>
            <a:off x="3962520" y="6858000"/>
            <a:ext cx="1600200" cy="96840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4"/>
          <a:stretch/>
        </p:blipFill>
        <p:spPr>
          <a:xfrm>
            <a:off x="5715000" y="6858000"/>
            <a:ext cx="1600200" cy="9684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-838080" y="5638680"/>
            <a:ext cx="8381880" cy="762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-74520" y="6400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6400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429000" y="6400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181480" y="6400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932520" y="6400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5"/>
          <a:stretch/>
        </p:blipFill>
        <p:spPr>
          <a:xfrm>
            <a:off x="-947880" y="384192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-793800" y="399420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7"/>
          <a:stretch/>
        </p:blipFill>
        <p:spPr>
          <a:xfrm>
            <a:off x="-642960" y="414648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8"/>
          <a:stretch/>
        </p:blipFill>
        <p:spPr>
          <a:xfrm>
            <a:off x="-490680" y="429912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9"/>
          <a:stretch/>
        </p:blipFill>
        <p:spPr>
          <a:xfrm>
            <a:off x="-338040" y="445140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10"/>
          <a:stretch/>
        </p:blipFill>
        <p:spPr>
          <a:xfrm>
            <a:off x="-187200" y="460368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1"/>
          <a:stretch/>
        </p:blipFill>
        <p:spPr>
          <a:xfrm>
            <a:off x="272880" y="384192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12"/>
          <a:stretch/>
        </p:blipFill>
        <p:spPr>
          <a:xfrm>
            <a:off x="423720" y="399420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3"/>
          <a:stretch/>
        </p:blipFill>
        <p:spPr>
          <a:xfrm>
            <a:off x="576360" y="414648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4"/>
          <a:stretch/>
        </p:blipFill>
        <p:spPr>
          <a:xfrm>
            <a:off x="728640" y="429912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5"/>
          <a:stretch/>
        </p:blipFill>
        <p:spPr>
          <a:xfrm>
            <a:off x="879480" y="445140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6"/>
          <a:stretch/>
        </p:blipFill>
        <p:spPr>
          <a:xfrm>
            <a:off x="1033560" y="460368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17"/>
          <a:stretch/>
        </p:blipFill>
        <p:spPr>
          <a:xfrm>
            <a:off x="1490760" y="384192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18"/>
          <a:stretch/>
        </p:blipFill>
        <p:spPr>
          <a:xfrm>
            <a:off x="1643040" y="399420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19"/>
          <a:stretch/>
        </p:blipFill>
        <p:spPr>
          <a:xfrm>
            <a:off x="1795320" y="414648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20"/>
          <a:stretch/>
        </p:blipFill>
        <p:spPr>
          <a:xfrm>
            <a:off x="1946160" y="429912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21"/>
          <a:stretch/>
        </p:blipFill>
        <p:spPr>
          <a:xfrm>
            <a:off x="2100240" y="445140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22"/>
          <a:stretch/>
        </p:blipFill>
        <p:spPr>
          <a:xfrm>
            <a:off x="2252520" y="460368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23"/>
          <a:stretch/>
        </p:blipFill>
        <p:spPr>
          <a:xfrm>
            <a:off x="2709720" y="384192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24"/>
          <a:stretch/>
        </p:blipFill>
        <p:spPr>
          <a:xfrm>
            <a:off x="2862360" y="399420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25"/>
          <a:stretch/>
        </p:blipFill>
        <p:spPr>
          <a:xfrm>
            <a:off x="3013200" y="414648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6"/>
          <a:stretch/>
        </p:blipFill>
        <p:spPr>
          <a:xfrm>
            <a:off x="3166920" y="429912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7"/>
          <a:stretch/>
        </p:blipFill>
        <p:spPr>
          <a:xfrm>
            <a:off x="3319560" y="445140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8"/>
          <a:stretch/>
        </p:blipFill>
        <p:spPr>
          <a:xfrm>
            <a:off x="3473280" y="460368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9"/>
          <a:stretch/>
        </p:blipFill>
        <p:spPr>
          <a:xfrm>
            <a:off x="3929040" y="384192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30"/>
          <a:stretch/>
        </p:blipFill>
        <p:spPr>
          <a:xfrm>
            <a:off x="4079880" y="399420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31"/>
          <a:stretch/>
        </p:blipFill>
        <p:spPr>
          <a:xfrm>
            <a:off x="4233960" y="414648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2"/>
          <a:stretch/>
        </p:blipFill>
        <p:spPr>
          <a:xfrm>
            <a:off x="4386240" y="429912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33"/>
          <a:stretch/>
        </p:blipFill>
        <p:spPr>
          <a:xfrm>
            <a:off x="4540320" y="445140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34"/>
          <a:stretch/>
        </p:blipFill>
        <p:spPr>
          <a:xfrm>
            <a:off x="4691160" y="460368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5"/>
          <a:stretch/>
        </p:blipFill>
        <p:spPr>
          <a:xfrm>
            <a:off x="5146560" y="384192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36"/>
          <a:stretch/>
        </p:blipFill>
        <p:spPr>
          <a:xfrm>
            <a:off x="5300640" y="399420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37"/>
          <a:stretch/>
        </p:blipFill>
        <p:spPr>
          <a:xfrm>
            <a:off x="5452920" y="414648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38"/>
          <a:stretch/>
        </p:blipFill>
        <p:spPr>
          <a:xfrm>
            <a:off x="5607000" y="429912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39"/>
          <a:stretch/>
        </p:blipFill>
        <p:spPr>
          <a:xfrm>
            <a:off x="5757840" y="4451400"/>
            <a:ext cx="852480" cy="75564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40"/>
          <a:stretch/>
        </p:blipFill>
        <p:spPr>
          <a:xfrm>
            <a:off x="5910120" y="4603680"/>
            <a:ext cx="852480" cy="75564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 txBox="1"/>
          <p:nvPr/>
        </p:nvSpPr>
        <p:spPr>
          <a:xfrm>
            <a:off x="1812960" y="3246480"/>
            <a:ext cx="22604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M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2270160" y="5684760"/>
            <a:ext cx="23972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-777960" y="7666200"/>
            <a:ext cx="3143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59876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4320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03848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5924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55308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-1181160" y="3809880"/>
            <a:ext cx="9180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41"/>
          <a:stretch/>
        </p:blipFill>
        <p:spPr>
          <a:xfrm>
            <a:off x="-1217520" y="6781680"/>
            <a:ext cx="16002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-1028880" y="1981080"/>
            <a:ext cx="91821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ème parallèle en réseau</a:t>
            </a:r>
            <a:br>
              <a:rPr sz="3600"/>
            </a:b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I, Myrinet, MPC..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1905120" cy="155088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3236760" y="3200400"/>
            <a:ext cx="1792440" cy="142704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5827680" y="3276720"/>
            <a:ext cx="1792440" cy="142704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4"/>
          <a:stretch/>
        </p:blipFill>
        <p:spPr>
          <a:xfrm>
            <a:off x="6591240" y="5105520"/>
            <a:ext cx="1792440" cy="142704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5"/>
          <a:stretch/>
        </p:blipFill>
        <p:spPr>
          <a:xfrm>
            <a:off x="4075200" y="7086600"/>
            <a:ext cx="1792440" cy="142704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6"/>
          <a:stretch/>
        </p:blipFill>
        <p:spPr>
          <a:xfrm>
            <a:off x="1560600" y="6781680"/>
            <a:ext cx="1792440" cy="142704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7"/>
          <a:stretch/>
        </p:blipFill>
        <p:spPr>
          <a:xfrm>
            <a:off x="-1487520" y="4495680"/>
            <a:ext cx="1792440" cy="142704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8"/>
          <a:stretch/>
        </p:blipFill>
        <p:spPr>
          <a:xfrm>
            <a:off x="-1030320" y="6705720"/>
            <a:ext cx="1792440" cy="142704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 flipH="1">
            <a:off x="1981080" y="4572000"/>
            <a:ext cx="2362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-1440" y="4572000"/>
            <a:ext cx="19825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-1440" y="4648320"/>
            <a:ext cx="5794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-1440" y="5105520"/>
            <a:ext cx="693396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-74520" y="5181480"/>
            <a:ext cx="5027400" cy="182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-1440" y="5257800"/>
            <a:ext cx="1982520" cy="144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-152280" y="5943600"/>
            <a:ext cx="38088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304920" y="4572000"/>
            <a:ext cx="1293840" cy="2133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676520" y="4572000"/>
            <a:ext cx="76176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752480" y="4648320"/>
            <a:ext cx="335304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828800" y="4648320"/>
            <a:ext cx="518148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905120" y="4648320"/>
            <a:ext cx="396072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419720" y="4495680"/>
            <a:ext cx="839520" cy="2590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876920" y="4495680"/>
            <a:ext cx="20556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2592360" y="4495680"/>
            <a:ext cx="1446120" cy="2286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5181480" y="4648320"/>
            <a:ext cx="144792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2819520" y="4648320"/>
            <a:ext cx="3579840" cy="2057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80880" y="4648320"/>
            <a:ext cx="5867640" cy="2286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380880" y="4495680"/>
            <a:ext cx="3278160" cy="289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1600200" y="3581280"/>
            <a:ext cx="2795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* 1500 $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2362320" y="5181480"/>
            <a:ext cx="2795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* 1 Gb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914400" y="5334120"/>
            <a:ext cx="5639040" cy="1905480"/>
          </a:xfrm>
          <a:custGeom>
            <a:avLst/>
            <a:gdLst/>
            <a:ahLst/>
            <a:rect l="0" t="0" r="r" b="b"/>
            <a:pathLst>
              <a:path w="15664" h="5293">
                <a:moveTo>
                  <a:pt x="0" y="5293"/>
                </a:moveTo>
                <a:lnTo>
                  <a:pt x="10965" y="5293"/>
                </a:lnTo>
                <a:lnTo>
                  <a:pt x="15664" y="0"/>
                </a:lnTo>
                <a:lnTo>
                  <a:pt x="4699" y="0"/>
                </a:lnTo>
                <a:lnTo>
                  <a:pt x="0" y="5293"/>
                </a:lnTo>
                <a:close/>
              </a:path>
            </a:pathLst>
          </a:custGeom>
          <a:solidFill>
            <a:srgbClr val="037c0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914400" y="4952880"/>
            <a:ext cx="5639040" cy="2057760"/>
          </a:xfrm>
          <a:custGeom>
            <a:avLst/>
            <a:gdLst/>
            <a:ahLst/>
            <a:rect l="0" t="0" r="r" b="b"/>
            <a:pathLst>
              <a:path w="15664" h="5716">
                <a:moveTo>
                  <a:pt x="0" y="5716"/>
                </a:moveTo>
                <a:lnTo>
                  <a:pt x="10965" y="5716"/>
                </a:lnTo>
                <a:lnTo>
                  <a:pt x="15664" y="0"/>
                </a:lnTo>
                <a:lnTo>
                  <a:pt x="4699" y="0"/>
                </a:lnTo>
                <a:lnTo>
                  <a:pt x="0" y="5716"/>
                </a:lnTo>
                <a:close/>
              </a:path>
            </a:pathLst>
          </a:custGeom>
          <a:solidFill>
            <a:srgbClr val="037c0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352680" y="6629400"/>
            <a:ext cx="1676880" cy="381240"/>
          </a:xfrm>
          <a:custGeom>
            <a:avLst/>
            <a:gdLst/>
            <a:ahLst/>
            <a:rect l="0" t="0" r="r" b="b"/>
            <a:pathLst>
              <a:path w="4658" h="1059">
                <a:moveTo>
                  <a:pt x="0" y="352"/>
                </a:moveTo>
                <a:lnTo>
                  <a:pt x="0" y="705"/>
                </a:lnTo>
                <a:lnTo>
                  <a:pt x="3260" y="705"/>
                </a:lnTo>
                <a:lnTo>
                  <a:pt x="3260" y="1059"/>
                </a:lnTo>
                <a:lnTo>
                  <a:pt x="4658" y="530"/>
                </a:lnTo>
                <a:lnTo>
                  <a:pt x="3260" y="0"/>
                </a:lnTo>
                <a:lnTo>
                  <a:pt x="3260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676520" y="6629400"/>
            <a:ext cx="1676880" cy="381240"/>
          </a:xfrm>
          <a:custGeom>
            <a:avLst/>
            <a:gdLst/>
            <a:ahLst/>
            <a:rect l="0" t="0" r="r" b="b"/>
            <a:pathLst>
              <a:path w="4658" h="1059">
                <a:moveTo>
                  <a:pt x="4658" y="352"/>
                </a:moveTo>
                <a:lnTo>
                  <a:pt x="4658" y="705"/>
                </a:lnTo>
                <a:lnTo>
                  <a:pt x="1398" y="705"/>
                </a:lnTo>
                <a:lnTo>
                  <a:pt x="1398" y="1059"/>
                </a:lnTo>
                <a:lnTo>
                  <a:pt x="0" y="530"/>
                </a:lnTo>
                <a:lnTo>
                  <a:pt x="1398" y="0"/>
                </a:lnTo>
                <a:lnTo>
                  <a:pt x="1398" y="352"/>
                </a:lnTo>
                <a:lnTo>
                  <a:pt x="4658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562720" y="5867280"/>
            <a:ext cx="762480" cy="762480"/>
          </a:xfrm>
          <a:custGeom>
            <a:avLst/>
            <a:gdLst/>
            <a:ahLst/>
            <a:rect l="0" t="0" r="r" b="b"/>
            <a:pathLst>
              <a:path w="2118" h="2118">
                <a:moveTo>
                  <a:pt x="0" y="2118"/>
                </a:moveTo>
                <a:lnTo>
                  <a:pt x="1695" y="2118"/>
                </a:lnTo>
                <a:lnTo>
                  <a:pt x="2118" y="1695"/>
                </a:lnTo>
                <a:lnTo>
                  <a:pt x="2118" y="0"/>
                </a:lnTo>
                <a:lnTo>
                  <a:pt x="1695" y="423"/>
                </a:lnTo>
                <a:lnTo>
                  <a:pt x="1695" y="2118"/>
                </a:lnTo>
                <a:lnTo>
                  <a:pt x="1695" y="423"/>
                </a:lnTo>
                <a:lnTo>
                  <a:pt x="0" y="423"/>
                </a:lnTo>
                <a:lnTo>
                  <a:pt x="423" y="0"/>
                </a:lnTo>
                <a:lnTo>
                  <a:pt x="2118" y="0"/>
                </a:lnTo>
                <a:lnTo>
                  <a:pt x="423" y="0"/>
                </a:lnTo>
                <a:lnTo>
                  <a:pt x="0" y="423"/>
                </a:lnTo>
                <a:lnTo>
                  <a:pt x="0" y="2118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324480" y="5943600"/>
            <a:ext cx="12193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324480" y="6019920"/>
            <a:ext cx="12193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324480" y="6095880"/>
            <a:ext cx="12193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324480" y="6172200"/>
            <a:ext cx="12193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324480" y="6248520"/>
            <a:ext cx="12193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324480" y="6324480"/>
            <a:ext cx="12193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324480" y="6400800"/>
            <a:ext cx="12193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324480" y="6477120"/>
            <a:ext cx="12193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2209680" y="5334120"/>
            <a:ext cx="1219320" cy="73836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2"/>
          <a:stretch/>
        </p:blipFill>
        <p:spPr>
          <a:xfrm>
            <a:off x="4267080" y="5334120"/>
            <a:ext cx="1219320" cy="73836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 txBox="1"/>
          <p:nvPr/>
        </p:nvSpPr>
        <p:spPr>
          <a:xfrm>
            <a:off x="2651040" y="699444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P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2651040" y="3962520"/>
            <a:ext cx="3595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eurs Intel/Pen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5470560" y="661356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Rou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308640" y="5318280"/>
            <a:ext cx="180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s 1 G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914400" y="701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105520" y="701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55308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2498760" y="6431040"/>
            <a:ext cx="1581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 Mhz 32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-1028880" y="2514600"/>
            <a:ext cx="918216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mple avec une carte PC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962520" y="647712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038480" y="647712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352680" y="5562720"/>
            <a:ext cx="457560" cy="381240"/>
          </a:xfrm>
          <a:custGeom>
            <a:avLst/>
            <a:gdLst/>
            <a:ahLst/>
            <a:rect l="0" t="0" r="r" b="b"/>
            <a:pathLst>
              <a:path w="1271" h="1059">
                <a:moveTo>
                  <a:pt x="1271" y="352"/>
                </a:moveTo>
                <a:lnTo>
                  <a:pt x="1271" y="705"/>
                </a:lnTo>
                <a:lnTo>
                  <a:pt x="380" y="705"/>
                </a:lnTo>
                <a:lnTo>
                  <a:pt x="380" y="1059"/>
                </a:lnTo>
                <a:lnTo>
                  <a:pt x="0" y="530"/>
                </a:lnTo>
                <a:lnTo>
                  <a:pt x="380" y="0"/>
                </a:lnTo>
                <a:lnTo>
                  <a:pt x="380" y="352"/>
                </a:lnTo>
                <a:lnTo>
                  <a:pt x="1271" y="352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09880" y="5562720"/>
            <a:ext cx="457560" cy="381240"/>
          </a:xfrm>
          <a:custGeom>
            <a:avLst/>
            <a:gdLst/>
            <a:ahLst/>
            <a:rect l="0" t="0" r="r" b="b"/>
            <a:pathLst>
              <a:path w="1271" h="1059">
                <a:moveTo>
                  <a:pt x="0" y="352"/>
                </a:moveTo>
                <a:lnTo>
                  <a:pt x="0" y="705"/>
                </a:lnTo>
                <a:lnTo>
                  <a:pt x="890" y="705"/>
                </a:lnTo>
                <a:lnTo>
                  <a:pt x="890" y="1059"/>
                </a:lnTo>
                <a:lnTo>
                  <a:pt x="1271" y="530"/>
                </a:lnTo>
                <a:lnTo>
                  <a:pt x="890" y="0"/>
                </a:lnTo>
                <a:lnTo>
                  <a:pt x="890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2955960" y="5013360"/>
            <a:ext cx="1817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032280" y="5897520"/>
            <a:ext cx="1581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 Mhz 64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-1104840" y="25146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es architectures à mémoire distribué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-1104840" y="377496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-95400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853920" y="377496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79200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-692280" y="37749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-579600" y="377496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-51768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-417600" y="377496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-35388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254160" y="37749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-141120" y="377496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1146240" y="3774960"/>
            <a:ext cx="324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128412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384200" y="377496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144612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546200" y="37749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165888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175896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1859040" y="377496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1920960" y="377496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199548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097000" y="3774960"/>
            <a:ext cx="272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218448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28456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2384280" y="37749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146240" y="4013280"/>
            <a:ext cx="361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1320840" y="401328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1384200" y="401328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1484280" y="401328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1558800" y="40132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1671480" y="4013280"/>
            <a:ext cx="272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1758960" y="401328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1859040" y="401328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1959120" y="40132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2071800" y="40132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2184480" y="40132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2297160" y="401328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2397240" y="4013280"/>
            <a:ext cx="272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384720" y="377496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546360" y="377496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3610080" y="377496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367200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3771720" y="3774960"/>
            <a:ext cx="272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59200" y="3774960"/>
            <a:ext cx="272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394668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046400" y="377496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110120" y="37749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422280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322880" y="377496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4384800" y="377496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446720" y="377496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52268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4622760" y="37749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4735440" y="3774960"/>
            <a:ext cx="272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822920" y="377496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89744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997520" y="377496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5072040" y="377496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384720" y="401328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3459240" y="4013280"/>
            <a:ext cx="387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659040" y="401328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3733920" y="40132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3897360" y="401328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997440" y="401328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4059360" y="401328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4159080" y="401328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4222800" y="4013280"/>
            <a:ext cx="272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309920" y="401328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371840" y="4013280"/>
            <a:ext cx="272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4459320" y="401328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5522760" y="37749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564840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5748480" y="377496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5823000" y="377496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5897520" y="37749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6010200" y="377496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6084720" y="3774960"/>
            <a:ext cx="361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625968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6359400" y="37749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647208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657216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6672240" y="377496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673560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6835680" y="377496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691056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7010280" y="377496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7072200" y="377496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5522760" y="401328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5597640" y="4013280"/>
            <a:ext cx="387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5797440" y="401328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5872320" y="401328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5935680" y="40132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6048360" y="40132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6159600" y="4013280"/>
            <a:ext cx="272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6248520" y="401328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6310440" y="4013280"/>
            <a:ext cx="272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6397560" y="401328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6472080" y="401328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6535800" y="40132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6648480" y="40132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6761160" y="401328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6823080" y="40132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6935760" y="401328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7010280" y="40132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7122960" y="401328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7223040" y="401328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7323120" y="4013280"/>
            <a:ext cx="272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7410600" y="4013280"/>
            <a:ext cx="272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7497720" y="401328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7597800" y="40132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7710480" y="401328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-1042920" y="3809880"/>
            <a:ext cx="1260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-1042920" y="3809880"/>
            <a:ext cx="1260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-1017720" y="3809880"/>
            <a:ext cx="21747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170000" y="3809880"/>
            <a:ext cx="1260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195560" y="3809880"/>
            <a:ext cx="21621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370320" y="3809880"/>
            <a:ext cx="1260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395520" y="3809880"/>
            <a:ext cx="21765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584680" y="3809880"/>
            <a:ext cx="111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608800" y="3809880"/>
            <a:ext cx="21765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797960" y="3809880"/>
            <a:ext cx="111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797960" y="3809880"/>
            <a:ext cx="111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-1042920" y="3835440"/>
            <a:ext cx="1260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170000" y="3835440"/>
            <a:ext cx="1260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370320" y="3835440"/>
            <a:ext cx="1260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584680" y="3835440"/>
            <a:ext cx="1116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7797960" y="3835440"/>
            <a:ext cx="1116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-1104840" y="432576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954000" y="432576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804960" y="432576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-641520" y="432576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-479520" y="432576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-417600" y="4325760"/>
            <a:ext cx="324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-279360" y="43257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-166680" y="432576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2120760" y="432576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2184480" y="432576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2246400" y="432576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2308320" y="43257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4297320" y="43257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4410000" y="43257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4522680" y="43257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6472080" y="43257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6585120" y="43257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6697800" y="43257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-1042920" y="4361040"/>
            <a:ext cx="12600" cy="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-1017720" y="4361040"/>
            <a:ext cx="2174760" cy="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170000" y="4361040"/>
            <a:ext cx="12600" cy="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195560" y="4361040"/>
            <a:ext cx="2162160" cy="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370320" y="4361040"/>
            <a:ext cx="12600" cy="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395520" y="4361040"/>
            <a:ext cx="2176560" cy="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584680" y="4361040"/>
            <a:ext cx="11160" cy="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608800" y="4361040"/>
            <a:ext cx="2176560" cy="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797960" y="4361040"/>
            <a:ext cx="11160" cy="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0800000">
            <a:off x="7821720" y="4359600"/>
            <a:ext cx="2163600" cy="1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-1042920" y="4384800"/>
            <a:ext cx="1260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170000" y="4384800"/>
            <a:ext cx="1260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370320" y="4384800"/>
            <a:ext cx="1260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584680" y="4384800"/>
            <a:ext cx="1116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797960" y="4384800"/>
            <a:ext cx="1116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-1104840" y="487512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-954000" y="487512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804960" y="487512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-641520" y="487512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-479520" y="487512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-417600" y="4875120"/>
            <a:ext cx="324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-279360" y="48751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-166680" y="4875120"/>
            <a:ext cx="324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2097000" y="487512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2158920" y="487512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2220840" y="487512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2284560" y="487512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2346480" y="487512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297320" y="48751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4410000" y="48751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4522680" y="48751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6472080" y="48751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6585120" y="48751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6697800" y="48751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-1042920" y="4910040"/>
            <a:ext cx="1260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-1017720" y="4910040"/>
            <a:ext cx="21747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170000" y="4910040"/>
            <a:ext cx="1260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195560" y="4910040"/>
            <a:ext cx="21621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370320" y="4910040"/>
            <a:ext cx="1260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395520" y="4910040"/>
            <a:ext cx="21765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584680" y="4910040"/>
            <a:ext cx="111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608800" y="4910040"/>
            <a:ext cx="21765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797960" y="4910040"/>
            <a:ext cx="111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-1042920" y="4935600"/>
            <a:ext cx="1260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170000" y="4935600"/>
            <a:ext cx="1260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370320" y="4935600"/>
            <a:ext cx="1260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584680" y="4935600"/>
            <a:ext cx="1116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797960" y="4935600"/>
            <a:ext cx="1116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-1104840" y="542592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-1030320" y="542592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-879480" y="5425920"/>
            <a:ext cx="387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679320" y="542592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-617400" y="54259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-492120" y="54259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-366840" y="54259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2108160" y="54259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2220840" y="54259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2333520" y="54259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4284720" y="542592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4346640" y="542592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4410000" y="542592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471920" y="542592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4533840" y="54259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6472080" y="54259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6585120" y="54259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6697800" y="54259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-1042920" y="5460840"/>
            <a:ext cx="12600" cy="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-1017720" y="5460840"/>
            <a:ext cx="2174760" cy="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170000" y="5460840"/>
            <a:ext cx="12600" cy="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195560" y="5460840"/>
            <a:ext cx="2162160" cy="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370320" y="5460840"/>
            <a:ext cx="12600" cy="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395520" y="5460840"/>
            <a:ext cx="2176560" cy="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584680" y="5460840"/>
            <a:ext cx="11160" cy="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608800" y="5460840"/>
            <a:ext cx="2176560" cy="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797960" y="5460840"/>
            <a:ext cx="11160" cy="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-1042920" y="5484960"/>
            <a:ext cx="1260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170000" y="5484960"/>
            <a:ext cx="1260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370320" y="5484960"/>
            <a:ext cx="1260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584680" y="5484960"/>
            <a:ext cx="1116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797960" y="5484960"/>
            <a:ext cx="1116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-1104840" y="597708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-1030320" y="597708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-879480" y="5977080"/>
            <a:ext cx="387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-679320" y="597708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-617400" y="59770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-492120" y="59770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-366840" y="59770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2097000" y="597708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2158920" y="597708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2220840" y="60530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257560" y="6053040"/>
            <a:ext cx="5619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284720" y="597708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346640" y="597708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4410000" y="59770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522680" y="59770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6472080" y="59770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6585120" y="59770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6697800" y="59770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-1042920" y="6010200"/>
            <a:ext cx="1260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-1017720" y="6010200"/>
            <a:ext cx="21747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170000" y="6010200"/>
            <a:ext cx="1260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195560" y="6010200"/>
            <a:ext cx="21621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370320" y="6010200"/>
            <a:ext cx="1260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395520" y="6010200"/>
            <a:ext cx="21765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584680" y="6010200"/>
            <a:ext cx="111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608800" y="6010200"/>
            <a:ext cx="21765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797960" y="6010200"/>
            <a:ext cx="111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-1042920" y="6035760"/>
            <a:ext cx="1260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170000" y="6035760"/>
            <a:ext cx="1260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370320" y="6035760"/>
            <a:ext cx="1260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584680" y="6035760"/>
            <a:ext cx="1116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797960" y="6035760"/>
            <a:ext cx="1116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-1104840" y="652608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-1030320" y="65260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-917640" y="652608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-853920" y="652608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-754200" y="652608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-692280" y="652608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-630360" y="65260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-504720" y="652608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-404640" y="652608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-330120" y="652608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-230040" y="65260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-117360" y="65260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-4680" y="65260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2097000" y="652608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2158920" y="652608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2220840" y="65260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2333520" y="65260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4284720" y="652608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346640" y="652608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4410000" y="65260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4522680" y="65260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6459480" y="652608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6523200" y="652608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6585120" y="65260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6697800" y="65260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-1042920" y="6561000"/>
            <a:ext cx="1260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-1017720" y="6561000"/>
            <a:ext cx="21747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170000" y="6561000"/>
            <a:ext cx="1260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195560" y="6561000"/>
            <a:ext cx="21621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370320" y="6561000"/>
            <a:ext cx="1260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395520" y="6561000"/>
            <a:ext cx="21765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84680" y="6561000"/>
            <a:ext cx="111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608800" y="6561000"/>
            <a:ext cx="21765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7797960" y="6561000"/>
            <a:ext cx="111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-1042920" y="6586560"/>
            <a:ext cx="12600" cy="511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170000" y="6586560"/>
            <a:ext cx="12600" cy="511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370320" y="6586560"/>
            <a:ext cx="12600" cy="511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584680" y="6586560"/>
            <a:ext cx="11160" cy="511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7797960" y="6586560"/>
            <a:ext cx="11160" cy="511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-1104840" y="70772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-979560" y="707724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-879480" y="70772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-766800" y="707724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-704880" y="7077240"/>
            <a:ext cx="24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-641520" y="70772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-530280" y="7077240"/>
            <a:ext cx="361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53880" y="70772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-241200" y="70772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-117360" y="707724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-41400" y="70772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69840" y="707724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133200" y="707724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208080" y="70772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20760" y="70772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433440" y="70772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546120" y="7077240"/>
            <a:ext cx="387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746280" y="70772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858960" y="7077240"/>
            <a:ext cx="285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958680" y="707724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2146320" y="707724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2208240" y="707724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2271600" y="707724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333520" y="707724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4334040" y="707724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4397400" y="707724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4459320" y="7077240"/>
            <a:ext cx="24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4522680" y="707724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6472080" y="70772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6585120" y="70772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6697800" y="70772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-1042920" y="7110360"/>
            <a:ext cx="1260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-1017720" y="7110360"/>
            <a:ext cx="21747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170000" y="7110360"/>
            <a:ext cx="1260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195560" y="7110360"/>
            <a:ext cx="21621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370320" y="7110360"/>
            <a:ext cx="1260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395520" y="7110360"/>
            <a:ext cx="21765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584680" y="7110360"/>
            <a:ext cx="111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608800" y="7110360"/>
            <a:ext cx="21765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797960" y="7110360"/>
            <a:ext cx="111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-1042920" y="7135920"/>
            <a:ext cx="1260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-1042920" y="7661160"/>
            <a:ext cx="1260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-1042920" y="7661160"/>
            <a:ext cx="1260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-1017720" y="7661160"/>
            <a:ext cx="21747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170000" y="7135920"/>
            <a:ext cx="1260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170000" y="7661160"/>
            <a:ext cx="1260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195560" y="7661160"/>
            <a:ext cx="21621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370320" y="7135920"/>
            <a:ext cx="1260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370320" y="7661160"/>
            <a:ext cx="1260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395520" y="7661160"/>
            <a:ext cx="21765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584680" y="7135920"/>
            <a:ext cx="1116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584680" y="7661160"/>
            <a:ext cx="111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608800" y="7661160"/>
            <a:ext cx="21765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797960" y="7135920"/>
            <a:ext cx="11160" cy="51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7797960" y="7661160"/>
            <a:ext cx="111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797960" y="7661160"/>
            <a:ext cx="11160" cy="1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 txBox="1"/>
          <p:nvPr/>
        </p:nvSpPr>
        <p:spPr>
          <a:xfrm>
            <a:off x="-1104840" y="25146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es architectures à mémoire partagé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-1154160" y="3809880"/>
            <a:ext cx="91123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 txBox="1"/>
          <p:nvPr/>
        </p:nvSpPr>
        <p:spPr>
          <a:xfrm>
            <a:off x="-723960" y="22096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mples de réseau haut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-1181160" y="3809880"/>
            <a:ext cx="91803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able Coherent Interface (S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onnexion pour clusters : Espaced’adressage globa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Transfert Mode (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tation de paquets de taille fixe (53 0ct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ri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gabit/s communication de paquets (machine parallè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l point a point parallèle de 32 ou 64 bits a 25 Mbit/s par l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-914400" y="2286000"/>
            <a:ext cx="9448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 txBox="1"/>
          <p:nvPr/>
        </p:nvSpPr>
        <p:spPr>
          <a:xfrm>
            <a:off x="-1104840" y="25146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 programmation des calculateurs parallè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-1181160" y="3809880"/>
            <a:ext cx="91803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Zapf Dingba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mode “passage de message” (PVM, MPI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multi-do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Zapf Dingba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émoire partag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eul espace d’adr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Zapf Dingba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arallélisme de données (bouc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éarisation des données et du code (pipe-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-990720" y="2286000"/>
            <a:ext cx="9448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-1600200" y="2286000"/>
            <a:ext cx="10287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-1600200" y="236232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 exemple de passage de messages : M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-1181160" y="3809880"/>
            <a:ext cx="91803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_Init (&amp;argc, &amp;arg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_Send(message, liste-param..., &amp;stat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_Recv(message, liste-param..., &amp;stat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_Finaliz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de communication standard, synchrone, ready et buffer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38080" y="198108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1828800" y="396252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s composantes d’un modèle de program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1181160" y="5181480"/>
            <a:ext cx="40006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ontrô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opé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81280" y="380988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s ressources d’un ordin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990720" y="2406600"/>
            <a:ext cx="891540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es modèles de programmation et d’exécu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66920" y="5181480"/>
            <a:ext cx="1176480" cy="855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19760" y="5181480"/>
            <a:ext cx="1495440" cy="855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477120"/>
            <a:ext cx="3416400" cy="9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4720" bIns="-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75480" y="7068960"/>
            <a:ext cx="1184400" cy="87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34240" y="7207200"/>
            <a:ext cx="693720" cy="12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34240" y="7419960"/>
            <a:ext cx="693720" cy="12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34240" y="7632720"/>
            <a:ext cx="693720" cy="13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672000" y="6033960"/>
            <a:ext cx="116280" cy="441720"/>
            <a:chOff x="3672000" y="6033960"/>
            <a:chExt cx="116280" cy="441720"/>
          </a:xfrm>
        </p:grpSpPr>
        <p:sp>
          <p:nvSpPr>
            <p:cNvPr id="61" name=""/>
            <p:cNvSpPr/>
            <p:nvPr/>
          </p:nvSpPr>
          <p:spPr>
            <a:xfrm>
              <a:off x="3672000" y="6262560"/>
              <a:ext cx="116280" cy="213120"/>
            </a:xfrm>
            <a:custGeom>
              <a:avLst/>
              <a:gdLst/>
              <a:ahLst/>
              <a:rect l="0" t="0" r="r" b="b"/>
              <a:pathLst>
                <a:path w="323" h="592">
                  <a:moveTo>
                    <a:pt x="159" y="592"/>
                  </a:moveTo>
                  <a:lnTo>
                    <a:pt x="0" y="0"/>
                  </a:lnTo>
                  <a:lnTo>
                    <a:pt x="159" y="0"/>
                  </a:lnTo>
                  <a:lnTo>
                    <a:pt x="323" y="0"/>
                  </a:lnTo>
                  <a:lnTo>
                    <a:pt x="159" y="5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72000" y="6033960"/>
              <a:ext cx="116280" cy="213120"/>
            </a:xfrm>
            <a:custGeom>
              <a:avLst/>
              <a:gdLst/>
              <a:ahLst/>
              <a:rect l="0" t="0" r="r" b="b"/>
              <a:pathLst>
                <a:path w="323" h="592">
                  <a:moveTo>
                    <a:pt x="159" y="0"/>
                  </a:moveTo>
                  <a:lnTo>
                    <a:pt x="323" y="592"/>
                  </a:lnTo>
                  <a:lnTo>
                    <a:pt x="159" y="592"/>
                  </a:lnTo>
                  <a:lnTo>
                    <a:pt x="0" y="592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728880" y="6253200"/>
              <a:ext cx="0" cy="15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121440" y="6040440"/>
            <a:ext cx="116280" cy="435240"/>
            <a:chOff x="6121440" y="6040440"/>
            <a:chExt cx="116280" cy="435240"/>
          </a:xfrm>
        </p:grpSpPr>
        <p:sp>
          <p:nvSpPr>
            <p:cNvPr id="65" name=""/>
            <p:cNvSpPr/>
            <p:nvPr/>
          </p:nvSpPr>
          <p:spPr>
            <a:xfrm>
              <a:off x="6121440" y="6262560"/>
              <a:ext cx="116280" cy="213120"/>
            </a:xfrm>
            <a:custGeom>
              <a:avLst/>
              <a:gdLst/>
              <a:ahLst/>
              <a:rect l="0" t="0" r="r" b="b"/>
              <a:pathLst>
                <a:path w="323" h="592">
                  <a:moveTo>
                    <a:pt x="164" y="592"/>
                  </a:moveTo>
                  <a:lnTo>
                    <a:pt x="0" y="0"/>
                  </a:lnTo>
                  <a:lnTo>
                    <a:pt x="164" y="0"/>
                  </a:lnTo>
                  <a:lnTo>
                    <a:pt x="323" y="0"/>
                  </a:lnTo>
                  <a:lnTo>
                    <a:pt x="164" y="5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6180120" y="60404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962680" y="6505560"/>
            <a:ext cx="116280" cy="564120"/>
            <a:chOff x="5962680" y="6505560"/>
            <a:chExt cx="116280" cy="564120"/>
          </a:xfrm>
        </p:grpSpPr>
        <p:sp>
          <p:nvSpPr>
            <p:cNvPr id="68" name=""/>
            <p:cNvSpPr/>
            <p:nvPr/>
          </p:nvSpPr>
          <p:spPr>
            <a:xfrm>
              <a:off x="5962680" y="6856560"/>
              <a:ext cx="116280" cy="213120"/>
            </a:xfrm>
            <a:custGeom>
              <a:avLst/>
              <a:gdLst/>
              <a:ahLst/>
              <a:rect l="0" t="0" r="r" b="b"/>
              <a:pathLst>
                <a:path w="323" h="592">
                  <a:moveTo>
                    <a:pt x="164" y="592"/>
                  </a:moveTo>
                  <a:lnTo>
                    <a:pt x="0" y="0"/>
                  </a:lnTo>
                  <a:lnTo>
                    <a:pt x="164" y="0"/>
                  </a:lnTo>
                  <a:lnTo>
                    <a:pt x="323" y="0"/>
                  </a:lnTo>
                  <a:lnTo>
                    <a:pt x="164" y="5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62680" y="6505560"/>
              <a:ext cx="116280" cy="214560"/>
            </a:xfrm>
            <a:custGeom>
              <a:avLst/>
              <a:gdLst/>
              <a:ahLst/>
              <a:rect l="0" t="0" r="r" b="b"/>
              <a:pathLst>
                <a:path w="323" h="596">
                  <a:moveTo>
                    <a:pt x="164" y="0"/>
                  </a:moveTo>
                  <a:lnTo>
                    <a:pt x="323" y="596"/>
                  </a:lnTo>
                  <a:lnTo>
                    <a:pt x="164" y="596"/>
                  </a:lnTo>
                  <a:lnTo>
                    <a:pt x="0" y="59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021360" y="67262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 txBox="1"/>
          <p:nvPr/>
        </p:nvSpPr>
        <p:spPr>
          <a:xfrm>
            <a:off x="3211560" y="5423040"/>
            <a:ext cx="1154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man"/>
                <a:ea typeface="Bookman"/>
              </a:rPr>
              <a:t>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776920" y="5423040"/>
            <a:ext cx="1546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man"/>
                <a:ea typeface="Bookman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484440" y="6505560"/>
            <a:ext cx="1570680" cy="1301760"/>
            <a:chOff x="3484440" y="6505560"/>
            <a:chExt cx="1570680" cy="1301760"/>
          </a:xfrm>
        </p:grpSpPr>
        <p:sp>
          <p:nvSpPr>
            <p:cNvPr id="74" name=""/>
            <p:cNvSpPr/>
            <p:nvPr/>
          </p:nvSpPr>
          <p:spPr>
            <a:xfrm>
              <a:off x="3484440" y="7068960"/>
              <a:ext cx="534960" cy="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17960" y="7068960"/>
              <a:ext cx="146160" cy="198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191120" y="7039080"/>
              <a:ext cx="115920" cy="214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05240" y="7068960"/>
              <a:ext cx="534960" cy="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84440" y="7068960"/>
              <a:ext cx="462240" cy="489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4392720" y="7068960"/>
              <a:ext cx="461880" cy="489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30480" y="7548480"/>
              <a:ext cx="463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3672000" y="6512040"/>
              <a:ext cx="116280" cy="557640"/>
              <a:chOff x="3672000" y="6512040"/>
              <a:chExt cx="116280" cy="557640"/>
            </a:xfrm>
          </p:grpSpPr>
          <p:sp>
            <p:nvSpPr>
              <p:cNvPr id="82" name=""/>
              <p:cNvSpPr/>
              <p:nvPr/>
            </p:nvSpPr>
            <p:spPr>
              <a:xfrm>
                <a:off x="3672000" y="6856560"/>
                <a:ext cx="116280" cy="213120"/>
              </a:xfrm>
              <a:custGeom>
                <a:avLst/>
                <a:gdLst/>
                <a:ahLst/>
                <a:rect l="0" t="0" r="r" b="b"/>
                <a:pathLst>
                  <a:path w="323" h="592">
                    <a:moveTo>
                      <a:pt x="159" y="592"/>
                    </a:moveTo>
                    <a:lnTo>
                      <a:pt x="0" y="0"/>
                    </a:lnTo>
                    <a:lnTo>
                      <a:pt x="159" y="0"/>
                    </a:lnTo>
                    <a:lnTo>
                      <a:pt x="323" y="0"/>
                    </a:lnTo>
                    <a:lnTo>
                      <a:pt x="159" y="5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3728880" y="6512040"/>
                <a:ext cx="0" cy="35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4537080" y="6512040"/>
              <a:ext cx="114840" cy="557640"/>
              <a:chOff x="4537080" y="6512040"/>
              <a:chExt cx="114840" cy="557640"/>
            </a:xfrm>
          </p:grpSpPr>
          <p:sp>
            <p:nvSpPr>
              <p:cNvPr id="85" name=""/>
              <p:cNvSpPr/>
              <p:nvPr/>
            </p:nvSpPr>
            <p:spPr>
              <a:xfrm>
                <a:off x="4537080" y="6856560"/>
                <a:ext cx="114840" cy="213120"/>
              </a:xfrm>
              <a:custGeom>
                <a:avLst/>
                <a:gdLst/>
                <a:ahLst/>
                <a:rect l="0" t="0" r="r" b="b"/>
                <a:pathLst>
                  <a:path w="319" h="592">
                    <a:moveTo>
                      <a:pt x="159" y="592"/>
                    </a:moveTo>
                    <a:lnTo>
                      <a:pt x="0" y="0"/>
                    </a:lnTo>
                    <a:lnTo>
                      <a:pt x="159" y="0"/>
                    </a:lnTo>
                    <a:lnTo>
                      <a:pt x="319" y="0"/>
                    </a:lnTo>
                    <a:lnTo>
                      <a:pt x="159" y="5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4594320" y="6512040"/>
                <a:ext cx="0" cy="35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 flipV="1">
              <a:off x="4176720" y="754848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76720" y="7807320"/>
              <a:ext cx="865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940280" y="6505560"/>
              <a:ext cx="114840" cy="1301760"/>
              <a:chOff x="4940280" y="6505560"/>
              <a:chExt cx="114840" cy="1301760"/>
            </a:xfrm>
          </p:grpSpPr>
          <p:sp>
            <p:nvSpPr>
              <p:cNvPr id="90" name=""/>
              <p:cNvSpPr/>
              <p:nvPr/>
            </p:nvSpPr>
            <p:spPr>
              <a:xfrm>
                <a:off x="4940280" y="6505560"/>
                <a:ext cx="114840" cy="214560"/>
              </a:xfrm>
              <a:custGeom>
                <a:avLst/>
                <a:gdLst/>
                <a:ahLst/>
                <a:rect l="0" t="0" r="r" b="b"/>
                <a:pathLst>
                  <a:path w="319" h="596">
                    <a:moveTo>
                      <a:pt x="159" y="0"/>
                    </a:moveTo>
                    <a:lnTo>
                      <a:pt x="319" y="596"/>
                    </a:lnTo>
                    <a:lnTo>
                      <a:pt x="159" y="596"/>
                    </a:lnTo>
                    <a:lnTo>
                      <a:pt x="0" y="596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4997520" y="6726240"/>
                <a:ext cx="0" cy="10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 txBox="1"/>
            <p:nvPr/>
          </p:nvSpPr>
          <p:spPr>
            <a:xfrm>
              <a:off x="3903840" y="7281720"/>
              <a:ext cx="550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Bookman"/>
                  <a:ea typeface="Bookman"/>
                </a:rPr>
                <a:t>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 txBox="1"/>
          <p:nvPr/>
        </p:nvSpPr>
        <p:spPr>
          <a:xfrm>
            <a:off x="4681440" y="6199200"/>
            <a:ext cx="739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"/>
                <a:ea typeface="Bookman"/>
              </a:rPr>
              <a:t>B U 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2800" y="4433760"/>
            <a:ext cx="162864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896160" y="7113600"/>
            <a:ext cx="1862280" cy="776520"/>
            <a:chOff x="6896160" y="7113600"/>
            <a:chExt cx="1862280" cy="776520"/>
          </a:xfrm>
        </p:grpSpPr>
        <p:sp>
          <p:nvSpPr>
            <p:cNvPr id="96" name=""/>
            <p:cNvSpPr txBox="1"/>
            <p:nvPr/>
          </p:nvSpPr>
          <p:spPr>
            <a:xfrm>
              <a:off x="6896160" y="7113600"/>
              <a:ext cx="1862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Registre Instr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6896160" y="7326360"/>
              <a:ext cx="1635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Registre Adres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896160" y="7585200"/>
              <a:ext cx="1703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Compteur Ord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666880" y="6553080"/>
            <a:ext cx="3808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436840" y="6019920"/>
            <a:ext cx="1440" cy="22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8001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7696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6400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36640" y="6689880"/>
            <a:ext cx="62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6858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6858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6477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727360" y="6553080"/>
            <a:ext cx="365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-1143000" y="3276720"/>
            <a:ext cx="9220320" cy="4800600"/>
          </a:xfrm>
          <a:prstGeom prst="rect">
            <a:avLst/>
          </a:prstGeom>
          <a:ln w="0">
            <a:noFill/>
          </a:ln>
        </p:spPr>
      </p:pic>
      <p:sp>
        <p:nvSpPr>
          <p:cNvPr id="1199" name=""/>
          <p:cNvSpPr txBox="1"/>
          <p:nvPr/>
        </p:nvSpPr>
        <p:spPr>
          <a:xfrm>
            <a:off x="-1104840" y="22860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lérer les latences : le multith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 txBox="1"/>
          <p:nvPr/>
        </p:nvSpPr>
        <p:spPr>
          <a:xfrm>
            <a:off x="-1104840" y="25146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-1488960" y="3768840"/>
            <a:ext cx="4703760" cy="41590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I =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J = 1,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S + A(I,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(I)=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que itération I devient un th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boucle interns fait le “gra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4572000" y="3781440"/>
            <a:ext cx="3898800" cy="4133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I=1,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I) = A*X(I) + Y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ent : N-1 threads 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k N-1 al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 : X(I) = A*X(I) + Y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-1104840" y="20574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é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1876320" y="3406680"/>
            <a:ext cx="9496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 ou flot        : Unité d'exécution séquentielle d'une suite d'instru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-1884240" y="359712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-1884240" y="378792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-1876320" y="3978360"/>
            <a:ext cx="10460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rité : Nombre d'instructions exécutées par un thread entre deux com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-1876320" y="4168800"/>
            <a:ext cx="3164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contex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-1884240" y="435924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1884240" y="454968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-1876320" y="4740120"/>
            <a:ext cx="10582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nce        : Temps d'attente avant de pouvoir consommer une information é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-1884240" y="493092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-1884240" y="512136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-1876320" y="5311800"/>
            <a:ext cx="10182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threading : Technique qui consiste à permettre l'exécution de plusieurs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-1876320" y="5502240"/>
            <a:ext cx="5937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parallèle ou en concur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1884240" y="569268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-1884240" y="588312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-1876320" y="6073920"/>
            <a:ext cx="10272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emptif     : un thread est préemptif s'il peut être interrompu avant d'avoir termi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-1876320" y="6264360"/>
            <a:ext cx="4427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unité d'exé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-1884240" y="645480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-1884240" y="664524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1876320" y="6835680"/>
            <a:ext cx="10690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synchrone : l'émetteur attend un retour du destinataire pour poursui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-1876320" y="7026120"/>
            <a:ext cx="5159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exé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-1884240" y="721692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-1884240" y="740736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-1876320" y="7597800"/>
            <a:ext cx="10142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asynchrone : l'émetteur poursuit son exécution après avoir émis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-1876320" y="7788240"/>
            <a:ext cx="4813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"/>
          <p:cNvSpPr txBox="1"/>
          <p:nvPr/>
        </p:nvSpPr>
        <p:spPr>
          <a:xfrm>
            <a:off x="228600" y="2000160"/>
            <a:ext cx="77598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Book Antiqua"/>
                <a:ea typeface="Book Antiqua"/>
              </a:rPr>
              <a:t>Exécuter une application multif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4480" y="3186000"/>
            <a:ext cx="7662960" cy="68724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25560">
            <a:solidFill>
              <a:srgbClr val="969696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2870280" y="2822400"/>
            <a:ext cx="1362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Rés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-835200" y="4908600"/>
            <a:ext cx="2771640" cy="2846520"/>
          </a:xfrm>
          <a:prstGeom prst="rect">
            <a:avLst/>
          </a:prstGeom>
          <a:solidFill>
            <a:srgbClr val="a2c1f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-687240" y="7186680"/>
            <a:ext cx="630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H="1" flipV="1">
            <a:off x="-803160" y="6850080"/>
            <a:ext cx="115920" cy="336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-46080" y="6865920"/>
            <a:ext cx="149400" cy="320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-774720" y="6850080"/>
            <a:ext cx="366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-270000" y="6850080"/>
            <a:ext cx="373320" cy="6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H="1" flipV="1">
            <a:off x="-415800" y="6870600"/>
            <a:ext cx="96840" cy="155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-318960" y="6843600"/>
            <a:ext cx="77760" cy="168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30080" y="5799240"/>
            <a:ext cx="379440" cy="642960"/>
          </a:xfrm>
          <a:prstGeom prst="rect">
            <a:avLst/>
          </a:prstGeom>
          <a:solidFill>
            <a:srgbClr val="3333cc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868320" y="5951520"/>
            <a:ext cx="379440" cy="642960"/>
          </a:xfrm>
          <a:prstGeom prst="rect">
            <a:avLst/>
          </a:prstGeom>
          <a:solidFill>
            <a:srgbClr val="51dc00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006560" y="6103800"/>
            <a:ext cx="380880" cy="642960"/>
          </a:xfrm>
          <a:prstGeom prst="rect">
            <a:avLst/>
          </a:prstGeom>
          <a:solidFill>
            <a:srgbClr val="fafd00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144440" y="6256440"/>
            <a:ext cx="380880" cy="642960"/>
          </a:xfrm>
          <a:prstGeom prst="rect">
            <a:avLst/>
          </a:prstGeom>
          <a:solidFill>
            <a:srgbClr val="919191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298520" y="6408720"/>
            <a:ext cx="378000" cy="642960"/>
          </a:xfrm>
          <a:prstGeom prst="rect">
            <a:avLst/>
          </a:prstGeom>
          <a:solidFill>
            <a:srgbClr val="ff500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-628560" y="6296040"/>
            <a:ext cx="0" cy="554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-612720" y="6278400"/>
            <a:ext cx="131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0" y="6400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0" y="6400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-363600" y="721512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-358920" y="7361280"/>
            <a:ext cx="117792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801720" y="6470640"/>
            <a:ext cx="1440" cy="8906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07800" y="5172120"/>
            <a:ext cx="1632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291960" y="4908600"/>
            <a:ext cx="0" cy="26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-714240" y="5011560"/>
            <a:ext cx="933480" cy="1093680"/>
          </a:xfrm>
          <a:prstGeom prst="rect">
            <a:avLst/>
          </a:prstGeom>
          <a:solidFill>
            <a:srgbClr val="c1ceff"/>
          </a:solidFill>
          <a:ln w="25560">
            <a:solidFill>
              <a:srgbClr val="969696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-765000" y="5173560"/>
            <a:ext cx="946080" cy="7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14141"/>
                </a:solidFill>
                <a:latin typeface="Book Antiqua"/>
                <a:ea typeface="Book Antiqua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14141"/>
                </a:solidFill>
                <a:latin typeface="Book Antiqua"/>
                <a:ea typeface="Book Antiqua"/>
              </a:rPr>
              <a:t>lo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787320" y="517212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129528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050840" y="4908600"/>
            <a:ext cx="0" cy="26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388800" y="4869000"/>
            <a:ext cx="422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14141"/>
                </a:solidFill>
                <a:latin typeface="Book Antiqua"/>
                <a:ea typeface="Book Antiqu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104840" y="4869000"/>
            <a:ext cx="627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14141"/>
                </a:solidFill>
                <a:latin typeface="Book Antiqua"/>
                <a:ea typeface="Book Antiqu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890640" y="7128000"/>
            <a:ext cx="861840" cy="492120"/>
          </a:xfrm>
          <a:prstGeom prst="rect">
            <a:avLst/>
          </a:prstGeom>
          <a:solidFill>
            <a:srgbClr val="c1ceff"/>
          </a:solidFill>
          <a:ln w="12600">
            <a:solidFill>
              <a:srgbClr val="00cc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958680" y="7129440"/>
            <a:ext cx="83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14141"/>
                </a:solidFill>
                <a:latin typeface="Book Antiqua"/>
                <a:ea typeface="Book Antiqua"/>
              </a:rPr>
              <a:t>F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1531800" y="3843360"/>
            <a:ext cx="0" cy="1036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692280" y="3849840"/>
            <a:ext cx="0" cy="1036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58760" y="5872320"/>
            <a:ext cx="5857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-955800" y="4413240"/>
            <a:ext cx="16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ocess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-749160" y="6878520"/>
            <a:ext cx="833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alc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055960" y="4915080"/>
            <a:ext cx="2903400" cy="28321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303640" y="7221600"/>
            <a:ext cx="671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H="1" flipV="1">
            <a:off x="2187720" y="6885000"/>
            <a:ext cx="115920" cy="336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2987640" y="6900840"/>
            <a:ext cx="144360" cy="320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198520" y="6885000"/>
            <a:ext cx="422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2762280" y="6891480"/>
            <a:ext cx="390600" cy="2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720" bIns="-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2616120" y="6891480"/>
            <a:ext cx="93600" cy="155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2709720" y="6878520"/>
            <a:ext cx="82800" cy="168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762360" y="5834160"/>
            <a:ext cx="380880" cy="642960"/>
          </a:xfrm>
          <a:prstGeom prst="rect">
            <a:avLst/>
          </a:prstGeom>
          <a:solidFill>
            <a:srgbClr val="3333cc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3900600" y="5986440"/>
            <a:ext cx="380880" cy="642960"/>
          </a:xfrm>
          <a:prstGeom prst="rect">
            <a:avLst/>
          </a:prstGeom>
          <a:solidFill>
            <a:srgbClr val="51dc00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038480" y="6138720"/>
            <a:ext cx="380880" cy="642960"/>
          </a:xfrm>
          <a:prstGeom prst="rect">
            <a:avLst/>
          </a:prstGeom>
          <a:solidFill>
            <a:srgbClr val="fafd00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176720" y="6291360"/>
            <a:ext cx="378000" cy="642960"/>
          </a:xfrm>
          <a:prstGeom prst="rect">
            <a:avLst/>
          </a:prstGeom>
          <a:solidFill>
            <a:srgbClr val="919191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4330800" y="6443640"/>
            <a:ext cx="378000" cy="642960"/>
          </a:xfrm>
          <a:prstGeom prst="rect">
            <a:avLst/>
          </a:prstGeom>
          <a:solidFill>
            <a:srgbClr val="ff5008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403360" y="6330960"/>
            <a:ext cx="0" cy="554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419200" y="6313320"/>
            <a:ext cx="1312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3076560" y="6411960"/>
            <a:ext cx="64440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081240" y="6438960"/>
            <a:ext cx="0" cy="452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665440" y="725004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673360" y="7402680"/>
            <a:ext cx="1192320" cy="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3336840" y="5200560"/>
            <a:ext cx="162576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325680" y="4943520"/>
            <a:ext cx="0" cy="26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997440" y="5192640"/>
            <a:ext cx="1440" cy="797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4699080" y="5249880"/>
            <a:ext cx="0" cy="1192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083120" y="4943520"/>
            <a:ext cx="0" cy="26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3421080" y="4903920"/>
            <a:ext cx="422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14141"/>
                </a:solidFill>
                <a:latin typeface="Book Antiqua"/>
                <a:ea typeface="Book Antiqu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4137120" y="4903920"/>
            <a:ext cx="627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14141"/>
                </a:solidFill>
                <a:latin typeface="Book Antiqua"/>
                <a:ea typeface="Book Antiqu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922560" y="7162920"/>
            <a:ext cx="954000" cy="533520"/>
          </a:xfrm>
          <a:prstGeom prst="rect">
            <a:avLst/>
          </a:prstGeom>
          <a:solidFill>
            <a:srgbClr val="c1ceff"/>
          </a:solidFill>
          <a:ln w="12600">
            <a:solidFill>
              <a:srgbClr val="00cc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3990960" y="7164360"/>
            <a:ext cx="83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14141"/>
                </a:solidFill>
                <a:latin typeface="Book Antiqua"/>
                <a:ea typeface="Book Antiqua"/>
              </a:rPr>
              <a:t>F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4664160" y="3892680"/>
            <a:ext cx="0" cy="1036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3824280" y="3898800"/>
            <a:ext cx="0" cy="1036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192480" y="5907240"/>
            <a:ext cx="5842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2077920" y="4448160"/>
            <a:ext cx="16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ocess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2252520" y="6912000"/>
            <a:ext cx="833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alc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025960" y="4921200"/>
            <a:ext cx="2906640" cy="28321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348160" y="7242120"/>
            <a:ext cx="671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flipH="1" flipV="1">
            <a:off x="5232240" y="6905520"/>
            <a:ext cx="115920" cy="336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6033960" y="6921360"/>
            <a:ext cx="146160" cy="320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246640" y="6905520"/>
            <a:ext cx="422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5810400" y="6905520"/>
            <a:ext cx="369720" cy="6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H="1" flipV="1">
            <a:off x="5664240" y="6926400"/>
            <a:ext cx="93600" cy="155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5757840" y="6899400"/>
            <a:ext cx="79560" cy="168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810480" y="5854680"/>
            <a:ext cx="378000" cy="642960"/>
          </a:xfrm>
          <a:prstGeom prst="rect">
            <a:avLst/>
          </a:prstGeom>
          <a:solidFill>
            <a:srgbClr val="3333cc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948360" y="6006960"/>
            <a:ext cx="378000" cy="642960"/>
          </a:xfrm>
          <a:prstGeom prst="rect">
            <a:avLst/>
          </a:prstGeom>
          <a:solidFill>
            <a:srgbClr val="51dc00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7086600" y="6159600"/>
            <a:ext cx="378000" cy="642960"/>
          </a:xfrm>
          <a:prstGeom prst="rect">
            <a:avLst/>
          </a:prstGeom>
          <a:solidFill>
            <a:srgbClr val="fafd00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7221600" y="6311880"/>
            <a:ext cx="380880" cy="642960"/>
          </a:xfrm>
          <a:prstGeom prst="rect">
            <a:avLst/>
          </a:prstGeom>
          <a:solidFill>
            <a:srgbClr val="919191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7375680" y="6464160"/>
            <a:ext cx="379440" cy="642960"/>
          </a:xfrm>
          <a:prstGeom prst="rect">
            <a:avLst/>
          </a:prstGeom>
          <a:solidFill>
            <a:srgbClr val="ff5008"/>
          </a:solidFill>
          <a:ln w="12600">
            <a:solidFill>
              <a:srgbClr val="96969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448240" y="6351480"/>
            <a:ext cx="0" cy="554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465880" y="6334200"/>
            <a:ext cx="131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095880" y="6477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095880" y="6477120"/>
            <a:ext cx="32040" cy="434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713560" y="7270920"/>
            <a:ext cx="0" cy="14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 flipH="1" flipV="1">
            <a:off x="6881760" y="6526080"/>
            <a:ext cx="6480" cy="893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384960" y="5227560"/>
            <a:ext cx="155268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370560" y="4964040"/>
            <a:ext cx="0" cy="26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5261040" y="5067360"/>
            <a:ext cx="1022400" cy="1050840"/>
          </a:xfrm>
          <a:prstGeom prst="rect">
            <a:avLst/>
          </a:prstGeom>
          <a:solidFill>
            <a:srgbClr val="c1ceff"/>
          </a:solidFill>
          <a:ln w="25560">
            <a:solidFill>
              <a:srgbClr val="969696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5311800" y="5229360"/>
            <a:ext cx="946080" cy="7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14141"/>
                </a:solidFill>
                <a:latin typeface="Book Antiqua"/>
                <a:ea typeface="Book Antiqua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14141"/>
                </a:solidFill>
                <a:latin typeface="Book Antiqua"/>
                <a:ea typeface="Book Antiqua"/>
              </a:rPr>
              <a:t>lo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966000" y="522756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7559640" y="5245200"/>
            <a:ext cx="0" cy="1050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130880" y="4964040"/>
            <a:ext cx="0" cy="26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6467400" y="4924440"/>
            <a:ext cx="422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14141"/>
                </a:solidFill>
                <a:latin typeface="Book Antiqua"/>
                <a:ea typeface="Book Antiqu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7184880" y="4924440"/>
            <a:ext cx="627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14141"/>
                </a:solidFill>
                <a:latin typeface="Book Antiqua"/>
                <a:ea typeface="Book Antiqu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7026120" y="7172280"/>
            <a:ext cx="861840" cy="482760"/>
          </a:xfrm>
          <a:prstGeom prst="rect">
            <a:avLst/>
          </a:prstGeom>
          <a:solidFill>
            <a:srgbClr val="c1ceff"/>
          </a:solidFill>
          <a:ln w="12600">
            <a:solidFill>
              <a:srgbClr val="bacd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14141"/>
                </a:solidFill>
                <a:latin typeface="Book Antiqua"/>
                <a:ea typeface="Book Antiqua"/>
              </a:rPr>
              <a:t>F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7666200" y="3913200"/>
            <a:ext cx="0" cy="1036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6770520" y="3862440"/>
            <a:ext cx="0" cy="1036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238800" y="5927760"/>
            <a:ext cx="582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5124600" y="4468680"/>
            <a:ext cx="16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ocess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5300640" y="6932520"/>
            <a:ext cx="1011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alc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739800" y="44276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3878280" y="4441680"/>
            <a:ext cx="28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6840360" y="44719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179800" y="5011560"/>
            <a:ext cx="934920" cy="1093680"/>
          </a:xfrm>
          <a:prstGeom prst="rect">
            <a:avLst/>
          </a:prstGeom>
          <a:solidFill>
            <a:srgbClr val="c1ceff"/>
          </a:solidFill>
          <a:ln w="25560">
            <a:solidFill>
              <a:srgbClr val="969696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2128680" y="5173560"/>
            <a:ext cx="946080" cy="7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14141"/>
                </a:solidFill>
                <a:latin typeface="Book Antiqua"/>
                <a:ea typeface="Book Antiqua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14141"/>
                </a:solidFill>
                <a:latin typeface="Book Antiqua"/>
                <a:ea typeface="Book Antiqua"/>
              </a:rPr>
              <a:t>lo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715000" y="7391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3986280" y="6505560"/>
            <a:ext cx="3240" cy="8906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 txBox="1"/>
          <p:nvPr/>
        </p:nvSpPr>
        <p:spPr>
          <a:xfrm>
            <a:off x="-1335240" y="2209680"/>
            <a:ext cx="81169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’AVENI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1600200" y="3429000"/>
            <a:ext cx="95234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Zapf Dingba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énéralisation de la technique  “multithread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Architecture des process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Système d’explo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Zapf Dingba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élisation automatique de program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Pre-processeur, instructions ou dir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Zapf Dingba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urs parallèles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Réseau de clusters de processeurs (de 100 a 10.000 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Cluster de processeurs sur une seule mémoire virtuel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3" name="" descr=""/>
          <p:cNvPicPr/>
          <p:nvPr/>
        </p:nvPicPr>
        <p:blipFill>
          <a:blip r:embed="rId1"/>
          <a:stretch/>
        </p:blipFill>
        <p:spPr>
          <a:xfrm>
            <a:off x="5346720" y="1905120"/>
            <a:ext cx="318780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 txBox="1"/>
          <p:nvPr/>
        </p:nvSpPr>
        <p:spPr>
          <a:xfrm>
            <a:off x="-1104840" y="25146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’AVENIR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-1181160" y="3962520"/>
            <a:ext cx="9791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Zapf Dingba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élisme interne : exécution “out-of-order”, spécu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 standard (HP-Intel :Mer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thread cablé : 4 a 8 threads réels, 128 threads virt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Zapf Dingba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ation de performance : communication entre espace virtuel émetteur et receveur sans rec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Zapf Dingba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mantique du parallél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6" name="" descr=""/>
          <p:cNvPicPr/>
          <p:nvPr/>
        </p:nvPicPr>
        <p:blipFill>
          <a:blip r:embed="rId1"/>
          <a:stretch/>
        </p:blipFill>
        <p:spPr>
          <a:xfrm>
            <a:off x="5346720" y="1905120"/>
            <a:ext cx="31878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 txBox="1"/>
          <p:nvPr/>
        </p:nvSpPr>
        <p:spPr>
          <a:xfrm>
            <a:off x="-1143000" y="419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I 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04920" y="579132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255276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s mém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4125960"/>
            <a:ext cx="6400800" cy="7398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60" y="4908600"/>
            <a:ext cx="7264440" cy="73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760" y="5715000"/>
            <a:ext cx="7264440" cy="73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0" y="6521400"/>
            <a:ext cx="726444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0" y="7323120"/>
            <a:ext cx="7264440" cy="73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5280" y="4314960"/>
            <a:ext cx="7259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es  Cache 1er niv.Cache 2i niv.  M.C.       Dis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40" y="4905360"/>
            <a:ext cx="7108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int.           &lt; 16 KO       &lt; 512 MO     1 GO       &gt;2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4080" y="5159520"/>
            <a:ext cx="3633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2 flott.       Data + Ins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920" y="5767560"/>
            <a:ext cx="7359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ns         5                      15                 40                  70     10 mill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6594480"/>
            <a:ext cx="6935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bit             1140          2280             2280               210           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6918480"/>
            <a:ext cx="853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/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1680" y="7397640"/>
            <a:ext cx="7183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éré     compilateur         dispositifs hard              O.S.        O.S.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7570800"/>
            <a:ext cx="739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eur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22320" y="4132440"/>
            <a:ext cx="0" cy="3944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197080" y="4132440"/>
            <a:ext cx="0" cy="394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809880" y="4132440"/>
            <a:ext cx="5040" cy="31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261040" y="4132440"/>
            <a:ext cx="0" cy="394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040440" y="4132440"/>
            <a:ext cx="0" cy="394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36440" y="5135400"/>
            <a:ext cx="804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320" y="4876920"/>
            <a:ext cx="7238880" cy="0"/>
          </a:xfrm>
          <a:prstGeom prst="line">
            <a:avLst/>
          </a:prstGeom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-76320" y="2247840"/>
            <a:ext cx="70102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Book Antiqua"/>
                <a:ea typeface="Book Antiqua"/>
              </a:rPr>
              <a:t>Evolutions technologique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04920" y="388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44520" y="2690640"/>
            <a:ext cx="2365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39760" y="423396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674640" y="4397400"/>
            <a:ext cx="4921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man"/>
                <a:ea typeface="Bookman"/>
              </a:rPr>
              <a:t>. 23 millions de transistors sur un M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674640" y="463860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674640" y="4803840"/>
            <a:ext cx="5638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man"/>
                <a:ea typeface="Bookman"/>
              </a:rPr>
              <a:t>. Plus de 1 000 connexions par circuit intég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674640" y="496872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674640" y="5132520"/>
            <a:ext cx="7020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man"/>
                <a:ea typeface="Bookman"/>
              </a:rPr>
              <a:t>. Horloge de base du processeur 400 Mhz &lt; h &lt; 1 000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674640" y="529740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674640" y="5462640"/>
            <a:ext cx="7684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man"/>
                <a:ea typeface="Bookman"/>
              </a:rPr>
              <a:t>. Temps d'accès à la mémoire centrale 50 ns &lt; ta &lt; 70 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674640" y="562752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674640" y="579132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674640" y="5880240"/>
            <a:ext cx="6273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man"/>
                <a:ea typeface="Bookman"/>
              </a:rPr>
              <a:t>. Chip RAM mémoire dynamique 16M. à 256M.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674640" y="604512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674640" y="6210360"/>
            <a:ext cx="5899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man"/>
                <a:ea typeface="Bookman"/>
              </a:rPr>
              <a:t>. Performance réseau local Ethernet &lt; 100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674640" y="637380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674640" y="6539040"/>
            <a:ext cx="7321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man"/>
                <a:ea typeface="Bookman"/>
              </a:rPr>
              <a:t>. Réseau RNIS 64 K.b/s par voie : transmission par paqu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674640" y="670392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39760" y="686916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39760" y="6956280"/>
            <a:ext cx="3402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man"/>
                <a:ea typeface="Bookman"/>
              </a:rPr>
              <a:t>. Interface série 57.6 K.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39760" y="712152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992240" y="3243240"/>
            <a:ext cx="4749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"/>
                <a:ea typeface="Bookman"/>
              </a:rPr>
              <a:t>Quelques chiffres en 1999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623880" y="3840120"/>
            <a:ext cx="68724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man"/>
                <a:ea typeface="Bookman"/>
              </a:rPr>
              <a:t>. 15 millions de transistors  sur une puce de 1.5 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Bookman"/>
                <a:ea typeface="Bookman"/>
              </a:rPr>
              <a:t>(0,20 micron de lg de gri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546880" y="377352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777960" y="7527960"/>
            <a:ext cx="5899320" cy="4572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ûts 14 G$ pour le process ; 60 G$ par us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130320" y="6391440"/>
            <a:ext cx="15098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130320" y="656100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282600" y="4216320"/>
            <a:ext cx="68230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Bookman"/>
                <a:ea typeface="Bookman"/>
              </a:rPr>
              <a:t>. &gt; 2 200 connexions par circuits intégrés ( 1,5 V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130320" y="682632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58920" y="4862520"/>
            <a:ext cx="4740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Bookman"/>
                <a:ea typeface="Bookman"/>
              </a:rPr>
              <a:t>. Horloge du processeur &gt; 1,5 Gh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130320" y="716580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282600" y="5583240"/>
            <a:ext cx="5737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Bookman"/>
                <a:ea typeface="Bookman"/>
              </a:rPr>
              <a:t>. Temps d'accès mémoire centrale &lt; 2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130320" y="704844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282600" y="6303960"/>
            <a:ext cx="5594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Bookman"/>
                <a:ea typeface="Bookman"/>
              </a:rPr>
              <a:t>. Chip mémoire RAM dynamique 1G.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130320" y="738972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206280" y="7026120"/>
            <a:ext cx="5045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Bookman"/>
                <a:ea typeface="Bookman"/>
              </a:rPr>
              <a:t>. Vitesse réseau 2 Gb/s -&gt; ... 16 Gb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130320" y="734868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-282600" y="3424320"/>
            <a:ext cx="7978680" cy="831600"/>
            <a:chOff x="-282600" y="3424320"/>
            <a:chExt cx="7978680" cy="831600"/>
          </a:xfrm>
        </p:grpSpPr>
        <p:sp>
          <p:nvSpPr>
            <p:cNvPr id="169" name=""/>
            <p:cNvSpPr txBox="1"/>
            <p:nvPr/>
          </p:nvSpPr>
          <p:spPr>
            <a:xfrm>
              <a:off x="6496200" y="3424320"/>
              <a:ext cx="3254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7050240" y="3451320"/>
              <a:ext cx="3254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-282600" y="3554280"/>
              <a:ext cx="79786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"/>
                  <a:ea typeface="Bookman"/>
                </a:rPr>
                <a:t>. 100 millions de transistors sur une puce de (2.54) 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"/>
                  <a:ea typeface="Bookman"/>
                </a:rPr>
                <a:t>(0,10 micron de lg de grill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 txBox="1"/>
          <p:nvPr/>
        </p:nvSpPr>
        <p:spPr>
          <a:xfrm>
            <a:off x="0" y="2324160"/>
            <a:ext cx="70102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Book Antiqua"/>
                <a:ea typeface="Book Antiqua"/>
              </a:rPr>
              <a:t>Evolutions technologique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1844640" y="3595680"/>
            <a:ext cx="1616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6b61"/>
                </a:solidFill>
                <a:latin typeface="Times New Roman"/>
                <a:ea typeface="Times New Roman"/>
              </a:rPr>
              <a:t>vers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1311120" y="7527960"/>
            <a:ext cx="6318360" cy="4572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ûts &gt;&gt; 15 G$ pour le process ; 10 G$ par us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650880" y="3152880"/>
            <a:ext cx="6996240" cy="2360520"/>
            <a:chOff x="650880" y="3152880"/>
            <a:chExt cx="6996240" cy="2360520"/>
          </a:xfrm>
        </p:grpSpPr>
        <p:grpSp>
          <p:nvGrpSpPr>
            <p:cNvPr id="176" name=""/>
            <p:cNvGrpSpPr/>
            <p:nvPr/>
          </p:nvGrpSpPr>
          <p:grpSpPr>
            <a:xfrm>
              <a:off x="1955880" y="3584520"/>
              <a:ext cx="1092240" cy="937080"/>
              <a:chOff x="1955880" y="3584520"/>
              <a:chExt cx="1092240" cy="937080"/>
            </a:xfrm>
          </p:grpSpPr>
          <p:sp>
            <p:nvSpPr>
              <p:cNvPr id="177" name=""/>
              <p:cNvSpPr/>
              <p:nvPr/>
            </p:nvSpPr>
            <p:spPr>
              <a:xfrm>
                <a:off x="1955880" y="4348080"/>
                <a:ext cx="171720" cy="173520"/>
              </a:xfrm>
              <a:custGeom>
                <a:avLst/>
                <a:gdLst/>
                <a:ahLst/>
                <a:rect l="0" t="0" r="r" b="b"/>
                <a:pathLst>
                  <a:path w="477" h="482">
                    <a:moveTo>
                      <a:pt x="0" y="482"/>
                    </a:moveTo>
                    <a:lnTo>
                      <a:pt x="307" y="0"/>
                    </a:lnTo>
                    <a:lnTo>
                      <a:pt x="375" y="161"/>
                    </a:lnTo>
                    <a:lnTo>
                      <a:pt x="477" y="281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2090880" y="3584520"/>
                <a:ext cx="957240" cy="83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038480" y="3587760"/>
              <a:ext cx="76680" cy="1060560"/>
              <a:chOff x="4038480" y="3587760"/>
              <a:chExt cx="76680" cy="1060560"/>
            </a:xfrm>
          </p:grpSpPr>
          <p:sp>
            <p:nvSpPr>
              <p:cNvPr id="180" name=""/>
              <p:cNvSpPr/>
              <p:nvPr/>
            </p:nvSpPr>
            <p:spPr>
              <a:xfrm>
                <a:off x="4038480" y="4417920"/>
                <a:ext cx="76680" cy="230400"/>
              </a:xfrm>
              <a:custGeom>
                <a:avLst/>
                <a:gdLst/>
                <a:ahLst/>
                <a:rect l="0" t="0" r="r" b="b"/>
                <a:pathLst>
                  <a:path w="213" h="640">
                    <a:moveTo>
                      <a:pt x="106" y="640"/>
                    </a:moveTo>
                    <a:lnTo>
                      <a:pt x="0" y="0"/>
                    </a:lnTo>
                    <a:lnTo>
                      <a:pt x="106" y="0"/>
                    </a:lnTo>
                    <a:lnTo>
                      <a:pt x="213" y="0"/>
                    </a:lnTo>
                    <a:lnTo>
                      <a:pt x="106" y="64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4076640" y="358776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448240" y="3657600"/>
              <a:ext cx="902160" cy="902160"/>
              <a:chOff x="5448240" y="3657600"/>
              <a:chExt cx="902160" cy="902160"/>
            </a:xfrm>
          </p:grpSpPr>
          <p:sp>
            <p:nvSpPr>
              <p:cNvPr id="183" name=""/>
              <p:cNvSpPr/>
              <p:nvPr/>
            </p:nvSpPr>
            <p:spPr>
              <a:xfrm>
                <a:off x="6184800" y="4394160"/>
                <a:ext cx="165600" cy="165600"/>
              </a:xfrm>
              <a:custGeom>
                <a:avLst/>
                <a:gdLst/>
                <a:ahLst/>
                <a:rect l="0" t="0" r="r" b="b"/>
                <a:pathLst>
                  <a:path w="460" h="460">
                    <a:moveTo>
                      <a:pt x="460" y="460"/>
                    </a:moveTo>
                    <a:lnTo>
                      <a:pt x="0" y="212"/>
                    </a:lnTo>
                    <a:lnTo>
                      <a:pt x="105" y="105"/>
                    </a:lnTo>
                    <a:lnTo>
                      <a:pt x="212" y="0"/>
                    </a:lnTo>
                    <a:lnTo>
                      <a:pt x="46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48240" y="3657600"/>
                <a:ext cx="78732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 txBox="1"/>
            <p:nvPr/>
          </p:nvSpPr>
          <p:spPr>
            <a:xfrm>
              <a:off x="2314440" y="3220920"/>
              <a:ext cx="241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1914480" y="3152880"/>
              <a:ext cx="3549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    =   N    *    C    *     T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650880" y="4468680"/>
              <a:ext cx="26319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mbre d'instruc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650880" y="4697280"/>
              <a:ext cx="12002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écuté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3305160" y="4583160"/>
              <a:ext cx="2173320" cy="930240"/>
              <a:chOff x="3305160" y="4583160"/>
              <a:chExt cx="2173320" cy="93024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3305160" y="4583160"/>
                <a:ext cx="2173320" cy="930240"/>
                <a:chOff x="3305160" y="4583160"/>
                <a:chExt cx="2173320" cy="930240"/>
              </a:xfrm>
            </p:grpSpPr>
            <p:sp>
              <p:nvSpPr>
                <p:cNvPr id="191" name=""/>
                <p:cNvSpPr txBox="1"/>
                <p:nvPr/>
              </p:nvSpPr>
              <p:spPr>
                <a:xfrm>
                  <a:off x="3305160" y="4811760"/>
                  <a:ext cx="21240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ycles de base pa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 txBox="1"/>
                <p:nvPr/>
              </p:nvSpPr>
              <p:spPr>
                <a:xfrm>
                  <a:off x="3305160" y="4583160"/>
                  <a:ext cx="21733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 moyen d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"/>
              <p:cNvSpPr txBox="1"/>
              <p:nvPr/>
            </p:nvSpPr>
            <p:spPr>
              <a:xfrm>
                <a:off x="3305160" y="5116680"/>
                <a:ext cx="137016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struc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514840" y="4468680"/>
              <a:ext cx="2132280" cy="701640"/>
              <a:chOff x="5514840" y="4468680"/>
              <a:chExt cx="2132280" cy="701640"/>
            </a:xfrm>
          </p:grpSpPr>
          <p:sp>
            <p:nvSpPr>
              <p:cNvPr id="195" name=""/>
              <p:cNvSpPr txBox="1"/>
              <p:nvPr/>
            </p:nvSpPr>
            <p:spPr>
              <a:xfrm>
                <a:off x="5514840" y="4468680"/>
                <a:ext cx="1235160" cy="70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emps 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6581880" y="4468680"/>
                <a:ext cx="1065240" cy="70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ycle d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5591160" y="4697280"/>
                <a:ext cx="135720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rocesseu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-1382760" y="5791320"/>
            <a:ext cx="8699400" cy="2249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762120" y="2095560"/>
            <a:ext cx="70102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Book Antiqua"/>
                <a:ea typeface="Book Antiqua"/>
              </a:rPr>
              <a:t>Evaluation de perform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65040" y="3108240"/>
            <a:ext cx="79405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ugmentation de performances attendue, en améliorant une partie de la machine, est limitée par la fraction du temps pendant laquelle cette partie est utilis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81040" y="4924440"/>
            <a:ext cx="1976400" cy="48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Ns + Np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32280" y="4556160"/>
            <a:ext cx="5680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 = Nb instructions de la partie séquent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= Nb instructions parallélis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= Nombre de process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930240" y="6126120"/>
            <a:ext cx="28224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e1:  80 :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% parallèle sur 80 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 séquent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251240" y="6126120"/>
            <a:ext cx="2949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e2:  99 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% parallèle sur 100 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 séquent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-1219320" y="7162920"/>
            <a:ext cx="4711680" cy="10666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733920" y="7162920"/>
            <a:ext cx="4572000" cy="1066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-1868400" y="2895480"/>
            <a:ext cx="2706840" cy="2048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-457200" y="198108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 tyrannie de la loi d’Amdh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-1905120" y="25909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es types de parallélis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89560" y="2220840"/>
            <a:ext cx="86832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22960" y="2305080"/>
            <a:ext cx="868320" cy="6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7800" y="2422440"/>
            <a:ext cx="879480" cy="6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121360" y="4191120"/>
            <a:ext cx="87120" cy="137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5197320" y="4210200"/>
            <a:ext cx="406440" cy="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264280" y="4211640"/>
            <a:ext cx="352440" cy="341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23000" y="4548240"/>
            <a:ext cx="33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297400" y="3824280"/>
            <a:ext cx="89280" cy="387720"/>
            <a:chOff x="5297400" y="3824280"/>
            <a:chExt cx="89280" cy="387720"/>
          </a:xfrm>
        </p:grpSpPr>
        <p:sp>
          <p:nvSpPr>
            <p:cNvPr id="218" name=""/>
            <p:cNvSpPr/>
            <p:nvPr/>
          </p:nvSpPr>
          <p:spPr>
            <a:xfrm>
              <a:off x="5297400" y="4062240"/>
              <a:ext cx="89280" cy="149760"/>
            </a:xfrm>
            <a:custGeom>
              <a:avLst/>
              <a:gdLst/>
              <a:ahLst/>
              <a:rect l="0" t="0" r="r" b="b"/>
              <a:pathLst>
                <a:path w="248" h="416">
                  <a:moveTo>
                    <a:pt x="124" y="416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248" y="0"/>
                  </a:lnTo>
                  <a:lnTo>
                    <a:pt x="124" y="4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342040" y="382428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033880" y="472932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618160" y="3817800"/>
            <a:ext cx="87840" cy="911520"/>
            <a:chOff x="5618160" y="3817800"/>
            <a:chExt cx="87840" cy="911520"/>
          </a:xfrm>
        </p:grpSpPr>
        <p:sp>
          <p:nvSpPr>
            <p:cNvPr id="222" name=""/>
            <p:cNvSpPr/>
            <p:nvPr/>
          </p:nvSpPr>
          <p:spPr>
            <a:xfrm>
              <a:off x="5618160" y="3817800"/>
              <a:ext cx="87840" cy="149760"/>
            </a:xfrm>
            <a:custGeom>
              <a:avLst/>
              <a:gdLst/>
              <a:ahLst/>
              <a:rect l="0" t="0" r="r" b="b"/>
              <a:pathLst>
                <a:path w="244" h="416">
                  <a:moveTo>
                    <a:pt x="120" y="0"/>
                  </a:moveTo>
                  <a:lnTo>
                    <a:pt x="244" y="416"/>
                  </a:lnTo>
                  <a:lnTo>
                    <a:pt x="120" y="416"/>
                  </a:lnTo>
                  <a:lnTo>
                    <a:pt x="0" y="41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5661000" y="3973680"/>
              <a:ext cx="0" cy="755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 txBox="1"/>
          <p:nvPr/>
        </p:nvSpPr>
        <p:spPr>
          <a:xfrm>
            <a:off x="4869000" y="4332240"/>
            <a:ext cx="44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"/>
                <a:ea typeface="Bookman"/>
              </a:rPr>
              <a:t>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02360" y="2519280"/>
            <a:ext cx="868320" cy="6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460760" y="3125880"/>
            <a:ext cx="89280" cy="298800"/>
            <a:chOff x="4460760" y="3125880"/>
            <a:chExt cx="89280" cy="298800"/>
          </a:xfrm>
        </p:grpSpPr>
        <p:sp>
          <p:nvSpPr>
            <p:cNvPr id="227" name=""/>
            <p:cNvSpPr/>
            <p:nvPr/>
          </p:nvSpPr>
          <p:spPr>
            <a:xfrm>
              <a:off x="4460760" y="3274920"/>
              <a:ext cx="89280" cy="149760"/>
            </a:xfrm>
            <a:custGeom>
              <a:avLst/>
              <a:gdLst/>
              <a:ahLst/>
              <a:rect l="0" t="0" r="r" b="b"/>
              <a:pathLst>
                <a:path w="248" h="416">
                  <a:moveTo>
                    <a:pt x="124" y="416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248" y="0"/>
                  </a:lnTo>
                  <a:lnTo>
                    <a:pt x="124" y="4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60760" y="3125880"/>
              <a:ext cx="89280" cy="149760"/>
            </a:xfrm>
            <a:custGeom>
              <a:avLst/>
              <a:gdLst/>
              <a:ahLst/>
              <a:rect l="0" t="0" r="r" b="b"/>
              <a:pathLst>
                <a:path w="248" h="416">
                  <a:moveTo>
                    <a:pt x="124" y="0"/>
                  </a:moveTo>
                  <a:lnTo>
                    <a:pt x="248" y="416"/>
                  </a:lnTo>
                  <a:lnTo>
                    <a:pt x="124" y="416"/>
                  </a:lnTo>
                  <a:lnTo>
                    <a:pt x="0" y="41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11520" y="3274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334200" y="3132000"/>
            <a:ext cx="87840" cy="292680"/>
            <a:chOff x="6334200" y="3132000"/>
            <a:chExt cx="87840" cy="292680"/>
          </a:xfrm>
        </p:grpSpPr>
        <p:sp>
          <p:nvSpPr>
            <p:cNvPr id="231" name=""/>
            <p:cNvSpPr/>
            <p:nvPr/>
          </p:nvSpPr>
          <p:spPr>
            <a:xfrm>
              <a:off x="6334200" y="3274920"/>
              <a:ext cx="87840" cy="149760"/>
            </a:xfrm>
            <a:custGeom>
              <a:avLst/>
              <a:gdLst/>
              <a:ahLst/>
              <a:rect l="0" t="0" r="r" b="b"/>
              <a:pathLst>
                <a:path w="244" h="416">
                  <a:moveTo>
                    <a:pt x="120" y="416"/>
                  </a:moveTo>
                  <a:lnTo>
                    <a:pt x="0" y="0"/>
                  </a:lnTo>
                  <a:lnTo>
                    <a:pt x="120" y="0"/>
                  </a:lnTo>
                  <a:lnTo>
                    <a:pt x="244" y="0"/>
                  </a:lnTo>
                  <a:lnTo>
                    <a:pt x="120" y="4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377040" y="3132000"/>
              <a:ext cx="0" cy="149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384800" y="2273400"/>
            <a:ext cx="835200" cy="6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84720" y="2338560"/>
            <a:ext cx="846000" cy="6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97240" y="2401920"/>
            <a:ext cx="83520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48360" y="2703600"/>
            <a:ext cx="941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"/>
                <a:ea typeface="Bookman"/>
              </a:rPr>
              <a:t>I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97160" y="2486160"/>
            <a:ext cx="846000" cy="60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21280" y="2703600"/>
            <a:ext cx="722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"/>
                <a:ea typeface="Bookman"/>
              </a:rPr>
              <a:t>Donné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76560" y="3456000"/>
            <a:ext cx="35226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02120" y="3556080"/>
            <a:ext cx="9158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  <a:ea typeface="Geneva"/>
              </a:rPr>
              <a:t>R  E S E A 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0800000">
            <a:off x="4768920" y="4391280"/>
            <a:ext cx="406440" cy="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748040" y="4392720"/>
            <a:ext cx="363600" cy="341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92520" y="4910040"/>
            <a:ext cx="660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253120" y="3998880"/>
            <a:ext cx="89280" cy="911160"/>
            <a:chOff x="5253120" y="3998880"/>
            <a:chExt cx="89280" cy="911160"/>
          </a:xfrm>
        </p:grpSpPr>
        <p:sp>
          <p:nvSpPr>
            <p:cNvPr id="245" name=""/>
            <p:cNvSpPr/>
            <p:nvPr/>
          </p:nvSpPr>
          <p:spPr>
            <a:xfrm>
              <a:off x="5253120" y="3998880"/>
              <a:ext cx="89280" cy="149760"/>
            </a:xfrm>
            <a:custGeom>
              <a:avLst/>
              <a:gdLst/>
              <a:ahLst/>
              <a:rect l="0" t="0" r="r" b="b"/>
              <a:pathLst>
                <a:path w="248" h="416">
                  <a:moveTo>
                    <a:pt x="124" y="0"/>
                  </a:moveTo>
                  <a:lnTo>
                    <a:pt x="248" y="416"/>
                  </a:lnTo>
                  <a:lnTo>
                    <a:pt x="124" y="416"/>
                  </a:lnTo>
                  <a:lnTo>
                    <a:pt x="0" y="41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297400" y="4154400"/>
              <a:ext cx="0" cy="755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-231840" y="4915080"/>
            <a:ext cx="82800" cy="584280"/>
            <a:chOff x="-231840" y="4915080"/>
            <a:chExt cx="82800" cy="584280"/>
          </a:xfrm>
        </p:grpSpPr>
        <p:sp>
          <p:nvSpPr>
            <p:cNvPr id="248" name=""/>
            <p:cNvSpPr/>
            <p:nvPr/>
          </p:nvSpPr>
          <p:spPr>
            <a:xfrm>
              <a:off x="-231840" y="5348160"/>
              <a:ext cx="82800" cy="151200"/>
            </a:xfrm>
            <a:custGeom>
              <a:avLst/>
              <a:gdLst/>
              <a:ahLst/>
              <a:rect l="0" t="0" r="r" b="b"/>
              <a:pathLst>
                <a:path w="230" h="420">
                  <a:moveTo>
                    <a:pt x="114" y="420"/>
                  </a:moveTo>
                  <a:lnTo>
                    <a:pt x="0" y="0"/>
                  </a:lnTo>
                  <a:lnTo>
                    <a:pt x="114" y="0"/>
                  </a:lnTo>
                  <a:lnTo>
                    <a:pt x="230" y="0"/>
                  </a:lnTo>
                  <a:lnTo>
                    <a:pt x="114" y="4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-231840" y="4915080"/>
              <a:ext cx="82800" cy="152640"/>
            </a:xfrm>
            <a:custGeom>
              <a:avLst/>
              <a:gdLst/>
              <a:ahLst/>
              <a:rect l="0" t="0" r="r" b="b"/>
              <a:pathLst>
                <a:path w="230" h="424">
                  <a:moveTo>
                    <a:pt x="114" y="0"/>
                  </a:moveTo>
                  <a:lnTo>
                    <a:pt x="230" y="424"/>
                  </a:lnTo>
                  <a:lnTo>
                    <a:pt x="114" y="424"/>
                  </a:lnTo>
                  <a:lnTo>
                    <a:pt x="0" y="42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-190440" y="507348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-325440" y="4979880"/>
            <a:ext cx="82800" cy="519480"/>
            <a:chOff x="-325440" y="4979880"/>
            <a:chExt cx="82800" cy="519480"/>
          </a:xfrm>
        </p:grpSpPr>
        <p:sp>
          <p:nvSpPr>
            <p:cNvPr id="252" name=""/>
            <p:cNvSpPr/>
            <p:nvPr/>
          </p:nvSpPr>
          <p:spPr>
            <a:xfrm>
              <a:off x="-325440" y="5348160"/>
              <a:ext cx="82800" cy="151200"/>
            </a:xfrm>
            <a:custGeom>
              <a:avLst/>
              <a:gdLst/>
              <a:ahLst/>
              <a:rect l="0" t="0" r="r" b="b"/>
              <a:pathLst>
                <a:path w="230" h="420">
                  <a:moveTo>
                    <a:pt x="114" y="420"/>
                  </a:moveTo>
                  <a:lnTo>
                    <a:pt x="0" y="0"/>
                  </a:lnTo>
                  <a:lnTo>
                    <a:pt x="114" y="0"/>
                  </a:lnTo>
                  <a:lnTo>
                    <a:pt x="230" y="0"/>
                  </a:lnTo>
                  <a:lnTo>
                    <a:pt x="114" y="4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325440" y="4979880"/>
              <a:ext cx="82800" cy="152640"/>
            </a:xfrm>
            <a:custGeom>
              <a:avLst/>
              <a:gdLst/>
              <a:ahLst/>
              <a:rect l="0" t="0" r="r" b="b"/>
              <a:pathLst>
                <a:path w="230" h="424">
                  <a:moveTo>
                    <a:pt x="114" y="0"/>
                  </a:moveTo>
                  <a:lnTo>
                    <a:pt x="230" y="424"/>
                  </a:lnTo>
                  <a:lnTo>
                    <a:pt x="114" y="424"/>
                  </a:lnTo>
                  <a:lnTo>
                    <a:pt x="0" y="42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-284040" y="51386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 rot="10800000">
            <a:off x="-762120" y="6232680"/>
            <a:ext cx="382680" cy="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-378000" y="6234120"/>
            <a:ext cx="105120" cy="130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-252360" y="6211800"/>
            <a:ext cx="84240" cy="141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0800000">
            <a:off x="-169920" y="6232680"/>
            <a:ext cx="382680" cy="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-762120" y="6234120"/>
            <a:ext cx="344520" cy="34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-108000" y="6234120"/>
            <a:ext cx="333360" cy="34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-428760" y="6575400"/>
            <a:ext cx="319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-627120" y="5991120"/>
            <a:ext cx="84600" cy="275040"/>
            <a:chOff x="-627120" y="5991120"/>
            <a:chExt cx="84600" cy="275040"/>
          </a:xfrm>
        </p:grpSpPr>
        <p:sp>
          <p:nvSpPr>
            <p:cNvPr id="263" name=""/>
            <p:cNvSpPr/>
            <p:nvPr/>
          </p:nvSpPr>
          <p:spPr>
            <a:xfrm>
              <a:off x="-627120" y="6114960"/>
              <a:ext cx="84600" cy="151200"/>
            </a:xfrm>
            <a:custGeom>
              <a:avLst/>
              <a:gdLst/>
              <a:ahLst/>
              <a:rect l="0" t="0" r="r" b="b"/>
              <a:pathLst>
                <a:path w="235" h="420">
                  <a:moveTo>
                    <a:pt x="115" y="420"/>
                  </a:moveTo>
                  <a:lnTo>
                    <a:pt x="0" y="0"/>
                  </a:lnTo>
                  <a:lnTo>
                    <a:pt x="115" y="0"/>
                  </a:lnTo>
                  <a:lnTo>
                    <a:pt x="235" y="0"/>
                  </a:lnTo>
                  <a:lnTo>
                    <a:pt x="115" y="4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-585720" y="5991120"/>
              <a:ext cx="0" cy="13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-3240" y="5937120"/>
            <a:ext cx="82800" cy="362160"/>
            <a:chOff x="-3240" y="5937120"/>
            <a:chExt cx="82800" cy="362160"/>
          </a:xfrm>
        </p:grpSpPr>
        <p:sp>
          <p:nvSpPr>
            <p:cNvPr id="266" name=""/>
            <p:cNvSpPr/>
            <p:nvPr/>
          </p:nvSpPr>
          <p:spPr>
            <a:xfrm>
              <a:off x="-3240" y="6146640"/>
              <a:ext cx="82800" cy="152640"/>
            </a:xfrm>
            <a:custGeom>
              <a:avLst/>
              <a:gdLst/>
              <a:ahLst/>
              <a:rect l="0" t="0" r="r" b="b"/>
              <a:pathLst>
                <a:path w="230" h="424">
                  <a:moveTo>
                    <a:pt x="114" y="424"/>
                  </a:moveTo>
                  <a:lnTo>
                    <a:pt x="0" y="0"/>
                  </a:lnTo>
                  <a:lnTo>
                    <a:pt x="114" y="0"/>
                  </a:lnTo>
                  <a:lnTo>
                    <a:pt x="230" y="0"/>
                  </a:lnTo>
                  <a:lnTo>
                    <a:pt x="114" y="4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8160" y="593712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 flipV="1">
            <a:off x="-252360" y="657540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-252360" y="6757920"/>
            <a:ext cx="611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87280" y="5683320"/>
            <a:ext cx="84600" cy="1074600"/>
            <a:chOff x="287280" y="5683320"/>
            <a:chExt cx="84600" cy="1074600"/>
          </a:xfrm>
        </p:grpSpPr>
        <p:sp>
          <p:nvSpPr>
            <p:cNvPr id="271" name=""/>
            <p:cNvSpPr/>
            <p:nvPr/>
          </p:nvSpPr>
          <p:spPr>
            <a:xfrm>
              <a:off x="287280" y="5683320"/>
              <a:ext cx="84600" cy="151200"/>
            </a:xfrm>
            <a:custGeom>
              <a:avLst/>
              <a:gdLst/>
              <a:ahLst/>
              <a:rect l="0" t="0" r="r" b="b"/>
              <a:pathLst>
                <a:path w="235" h="420">
                  <a:moveTo>
                    <a:pt x="115" y="0"/>
                  </a:moveTo>
                  <a:lnTo>
                    <a:pt x="235" y="420"/>
                  </a:lnTo>
                  <a:lnTo>
                    <a:pt x="115" y="420"/>
                  </a:lnTo>
                  <a:lnTo>
                    <a:pt x="0" y="42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28680" y="5840280"/>
              <a:ext cx="0" cy="9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 txBox="1"/>
          <p:nvPr/>
        </p:nvSpPr>
        <p:spPr>
          <a:xfrm>
            <a:off x="-485640" y="6359400"/>
            <a:ext cx="485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"/>
                <a:ea typeface="Bookman"/>
              </a:rPr>
              <a:t>U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4480" y="4516560"/>
            <a:ext cx="830160" cy="61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-741240" y="5067360"/>
            <a:ext cx="84600" cy="432000"/>
            <a:chOff x="-741240" y="5067360"/>
            <a:chExt cx="84600" cy="432000"/>
          </a:xfrm>
        </p:grpSpPr>
        <p:sp>
          <p:nvSpPr>
            <p:cNvPr id="276" name=""/>
            <p:cNvSpPr/>
            <p:nvPr/>
          </p:nvSpPr>
          <p:spPr>
            <a:xfrm>
              <a:off x="-741240" y="5348160"/>
              <a:ext cx="84600" cy="151200"/>
            </a:xfrm>
            <a:custGeom>
              <a:avLst/>
              <a:gdLst/>
              <a:ahLst/>
              <a:rect l="0" t="0" r="r" b="b"/>
              <a:pathLst>
                <a:path w="235" h="420">
                  <a:moveTo>
                    <a:pt x="115" y="420"/>
                  </a:moveTo>
                  <a:lnTo>
                    <a:pt x="0" y="0"/>
                  </a:lnTo>
                  <a:lnTo>
                    <a:pt x="115" y="0"/>
                  </a:lnTo>
                  <a:lnTo>
                    <a:pt x="235" y="0"/>
                  </a:lnTo>
                  <a:lnTo>
                    <a:pt x="115" y="4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-741240" y="5067360"/>
              <a:ext cx="84600" cy="151200"/>
            </a:xfrm>
            <a:custGeom>
              <a:avLst/>
              <a:gdLst/>
              <a:ahLst/>
              <a:rect l="0" t="0" r="r" b="b"/>
              <a:pathLst>
                <a:path w="235" h="420">
                  <a:moveTo>
                    <a:pt x="115" y="0"/>
                  </a:moveTo>
                  <a:lnTo>
                    <a:pt x="235" y="420"/>
                  </a:lnTo>
                  <a:lnTo>
                    <a:pt x="115" y="420"/>
                  </a:lnTo>
                  <a:lnTo>
                    <a:pt x="0" y="42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-700200" y="5224320"/>
              <a:ext cx="0" cy="13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973080" y="5138640"/>
            <a:ext cx="84600" cy="295920"/>
            <a:chOff x="973080" y="5138640"/>
            <a:chExt cx="84600" cy="295920"/>
          </a:xfrm>
        </p:grpSpPr>
        <p:sp>
          <p:nvSpPr>
            <p:cNvPr id="280" name=""/>
            <p:cNvSpPr/>
            <p:nvPr/>
          </p:nvSpPr>
          <p:spPr>
            <a:xfrm>
              <a:off x="973080" y="5283360"/>
              <a:ext cx="84600" cy="151200"/>
            </a:xfrm>
            <a:custGeom>
              <a:avLst/>
              <a:gdLst/>
              <a:ahLst/>
              <a:rect l="0" t="0" r="r" b="b"/>
              <a:pathLst>
                <a:path w="235" h="420">
                  <a:moveTo>
                    <a:pt x="115" y="420"/>
                  </a:moveTo>
                  <a:lnTo>
                    <a:pt x="0" y="0"/>
                  </a:lnTo>
                  <a:lnTo>
                    <a:pt x="115" y="0"/>
                  </a:lnTo>
                  <a:lnTo>
                    <a:pt x="235" y="0"/>
                  </a:lnTo>
                  <a:lnTo>
                    <a:pt x="115" y="4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1014480" y="513864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-876240" y="4278240"/>
            <a:ext cx="798480" cy="60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-958680" y="4332240"/>
            <a:ext cx="797040" cy="61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-1052640" y="4397400"/>
            <a:ext cx="797040" cy="61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98400" y="4705200"/>
            <a:ext cx="941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"/>
                <a:ea typeface="Bookman"/>
              </a:rPr>
              <a:t>I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359000" y="5683320"/>
            <a:ext cx="82800" cy="551160"/>
            <a:chOff x="1359000" y="5683320"/>
            <a:chExt cx="82800" cy="551160"/>
          </a:xfrm>
        </p:grpSpPr>
        <p:sp>
          <p:nvSpPr>
            <p:cNvPr id="287" name=""/>
            <p:cNvSpPr/>
            <p:nvPr/>
          </p:nvSpPr>
          <p:spPr>
            <a:xfrm>
              <a:off x="1359000" y="6081840"/>
              <a:ext cx="82800" cy="152640"/>
            </a:xfrm>
            <a:custGeom>
              <a:avLst/>
              <a:gdLst/>
              <a:ahLst/>
              <a:rect l="0" t="0" r="r" b="b"/>
              <a:pathLst>
                <a:path w="230" h="424">
                  <a:moveTo>
                    <a:pt x="114" y="424"/>
                  </a:moveTo>
                  <a:lnTo>
                    <a:pt x="0" y="0"/>
                  </a:lnTo>
                  <a:lnTo>
                    <a:pt x="114" y="0"/>
                  </a:lnTo>
                  <a:lnTo>
                    <a:pt x="230" y="0"/>
                  </a:lnTo>
                  <a:lnTo>
                    <a:pt x="114" y="4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59000" y="5683320"/>
              <a:ext cx="82800" cy="151200"/>
            </a:xfrm>
            <a:custGeom>
              <a:avLst/>
              <a:gdLst/>
              <a:ahLst/>
              <a:rect l="0" t="0" r="r" b="b"/>
              <a:pathLst>
                <a:path w="230" h="420">
                  <a:moveTo>
                    <a:pt x="114" y="0"/>
                  </a:moveTo>
                  <a:lnTo>
                    <a:pt x="230" y="420"/>
                  </a:lnTo>
                  <a:lnTo>
                    <a:pt x="114" y="420"/>
                  </a:lnTo>
                  <a:lnTo>
                    <a:pt x="0" y="42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1400040" y="584028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-1136520" y="4483080"/>
            <a:ext cx="798480" cy="61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1130400" y="4705200"/>
            <a:ext cx="722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"/>
                <a:ea typeface="Bookman"/>
              </a:rPr>
              <a:t>Donné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-1260360" y="5467320"/>
            <a:ext cx="3270240" cy="21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92040" y="5505480"/>
            <a:ext cx="1647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  <a:ea typeface="Geneva"/>
              </a:rPr>
              <a:t>AC C E S   M É M O I R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222200" y="6234120"/>
            <a:ext cx="1978200" cy="614520"/>
            <a:chOff x="1222200" y="6234120"/>
            <a:chExt cx="1978200" cy="614520"/>
          </a:xfrm>
        </p:grpSpPr>
        <p:sp>
          <p:nvSpPr>
            <p:cNvPr id="295" name=""/>
            <p:cNvSpPr/>
            <p:nvPr/>
          </p:nvSpPr>
          <p:spPr>
            <a:xfrm>
              <a:off x="1222200" y="6234120"/>
              <a:ext cx="849240" cy="614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36680" y="6319800"/>
              <a:ext cx="49536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36680" y="6481800"/>
              <a:ext cx="49536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36680" y="6634080"/>
              <a:ext cx="49536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2060640" y="6273720"/>
              <a:ext cx="1139760" cy="515880"/>
              <a:chOff x="2060640" y="6273720"/>
              <a:chExt cx="1139760" cy="515880"/>
            </a:xfrm>
          </p:grpSpPr>
          <p:sp>
            <p:nvSpPr>
              <p:cNvPr id="300" name=""/>
              <p:cNvSpPr/>
              <p:nvPr/>
            </p:nvSpPr>
            <p:spPr>
              <a:xfrm>
                <a:off x="2060640" y="6273720"/>
                <a:ext cx="113976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60640" y="6424560"/>
                <a:ext cx="100980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0640" y="6575400"/>
                <a:ext cx="105876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-1415880" y="5877000"/>
            <a:ext cx="746280" cy="18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-1500120" y="5899320"/>
            <a:ext cx="74628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-1582560" y="5910120"/>
            <a:ext cx="74628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-1665360" y="5942160"/>
            <a:ext cx="744480" cy="18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1639800" y="6199200"/>
            <a:ext cx="790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"/>
                <a:ea typeface="Bookman"/>
              </a:rPr>
              <a:t>Registr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1639800" y="6372360"/>
            <a:ext cx="789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"/>
                <a:ea typeface="Bookman"/>
              </a:rPr>
              <a:t>Vectori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-668160" y="5925960"/>
            <a:ext cx="704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-668160" y="5991120"/>
            <a:ext cx="80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-149400" y="4915080"/>
            <a:ext cx="84600" cy="584280"/>
            <a:chOff x="-149400" y="4915080"/>
            <a:chExt cx="84600" cy="584280"/>
          </a:xfrm>
        </p:grpSpPr>
        <p:sp>
          <p:nvSpPr>
            <p:cNvPr id="312" name=""/>
            <p:cNvSpPr/>
            <p:nvPr/>
          </p:nvSpPr>
          <p:spPr>
            <a:xfrm>
              <a:off x="-149400" y="5348160"/>
              <a:ext cx="84600" cy="151200"/>
            </a:xfrm>
            <a:custGeom>
              <a:avLst/>
              <a:gdLst/>
              <a:ahLst/>
              <a:rect l="0" t="0" r="r" b="b"/>
              <a:pathLst>
                <a:path w="235" h="420">
                  <a:moveTo>
                    <a:pt x="115" y="420"/>
                  </a:moveTo>
                  <a:lnTo>
                    <a:pt x="0" y="0"/>
                  </a:lnTo>
                  <a:lnTo>
                    <a:pt x="115" y="0"/>
                  </a:lnTo>
                  <a:lnTo>
                    <a:pt x="235" y="0"/>
                  </a:lnTo>
                  <a:lnTo>
                    <a:pt x="115" y="4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-149400" y="4915080"/>
              <a:ext cx="84600" cy="152640"/>
            </a:xfrm>
            <a:custGeom>
              <a:avLst/>
              <a:gdLst/>
              <a:ahLst/>
              <a:rect l="0" t="0" r="r" b="b"/>
              <a:pathLst>
                <a:path w="235" h="424">
                  <a:moveTo>
                    <a:pt x="115" y="0"/>
                  </a:moveTo>
                  <a:lnTo>
                    <a:pt x="235" y="424"/>
                  </a:lnTo>
                  <a:lnTo>
                    <a:pt x="115" y="424"/>
                  </a:lnTo>
                  <a:lnTo>
                    <a:pt x="0" y="42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-108000" y="507348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-1093680" y="5672160"/>
            <a:ext cx="82800" cy="346320"/>
            <a:chOff x="-1093680" y="5672160"/>
            <a:chExt cx="82800" cy="346320"/>
          </a:xfrm>
        </p:grpSpPr>
        <p:sp>
          <p:nvSpPr>
            <p:cNvPr id="316" name=""/>
            <p:cNvSpPr/>
            <p:nvPr/>
          </p:nvSpPr>
          <p:spPr>
            <a:xfrm>
              <a:off x="-1093680" y="5865840"/>
              <a:ext cx="82800" cy="152640"/>
            </a:xfrm>
            <a:custGeom>
              <a:avLst/>
              <a:gdLst/>
              <a:ahLst/>
              <a:rect l="0" t="0" r="r" b="b"/>
              <a:pathLst>
                <a:path w="230" h="424">
                  <a:moveTo>
                    <a:pt x="114" y="424"/>
                  </a:moveTo>
                  <a:lnTo>
                    <a:pt x="0" y="0"/>
                  </a:lnTo>
                  <a:lnTo>
                    <a:pt x="114" y="0"/>
                  </a:lnTo>
                  <a:lnTo>
                    <a:pt x="230" y="0"/>
                  </a:lnTo>
                  <a:lnTo>
                    <a:pt x="114" y="4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-1093680" y="5672160"/>
              <a:ext cx="82800" cy="151200"/>
            </a:xfrm>
            <a:custGeom>
              <a:avLst/>
              <a:gdLst/>
              <a:ahLst/>
              <a:rect l="0" t="0" r="r" b="b"/>
              <a:pathLst>
                <a:path w="230" h="420">
                  <a:moveTo>
                    <a:pt x="114" y="0"/>
                  </a:moveTo>
                  <a:lnTo>
                    <a:pt x="230" y="420"/>
                  </a:lnTo>
                  <a:lnTo>
                    <a:pt x="114" y="420"/>
                  </a:lnTo>
                  <a:lnTo>
                    <a:pt x="0" y="42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-1052640" y="582948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 txBox="1"/>
          <p:nvPr/>
        </p:nvSpPr>
        <p:spPr>
          <a:xfrm>
            <a:off x="1460520" y="5924520"/>
            <a:ext cx="712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"/>
                <a:ea typeface="Bookman"/>
              </a:rPr>
              <a:t>Contrô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0800000">
            <a:off x="4505400" y="4210200"/>
            <a:ext cx="406440" cy="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13280" y="4211640"/>
            <a:ext cx="98280" cy="128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05400" y="4211640"/>
            <a:ext cx="352440" cy="341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572000" y="3824280"/>
            <a:ext cx="89280" cy="387720"/>
            <a:chOff x="4572000" y="3824280"/>
            <a:chExt cx="89280" cy="387720"/>
          </a:xfrm>
        </p:grpSpPr>
        <p:sp>
          <p:nvSpPr>
            <p:cNvPr id="324" name=""/>
            <p:cNvSpPr/>
            <p:nvPr/>
          </p:nvSpPr>
          <p:spPr>
            <a:xfrm>
              <a:off x="4572000" y="4062240"/>
              <a:ext cx="89280" cy="149760"/>
            </a:xfrm>
            <a:custGeom>
              <a:avLst/>
              <a:gdLst/>
              <a:ahLst/>
              <a:rect l="0" t="0" r="r" b="b"/>
              <a:pathLst>
                <a:path w="248" h="416">
                  <a:moveTo>
                    <a:pt x="124" y="416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248" y="0"/>
                  </a:lnTo>
                  <a:lnTo>
                    <a:pt x="124" y="4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616280" y="382428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 flipV="1">
            <a:off x="5033880" y="45482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4064040" y="4391280"/>
            <a:ext cx="406440" cy="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71920" y="4392720"/>
            <a:ext cx="100080" cy="128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603680" y="4371840"/>
            <a:ext cx="88920" cy="138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64040" y="4392720"/>
            <a:ext cx="353880" cy="341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406760" y="4724280"/>
            <a:ext cx="393840" cy="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132440" y="3855960"/>
            <a:ext cx="87840" cy="537120"/>
            <a:chOff x="4132440" y="3855960"/>
            <a:chExt cx="87840" cy="537120"/>
          </a:xfrm>
        </p:grpSpPr>
        <p:sp>
          <p:nvSpPr>
            <p:cNvPr id="333" name=""/>
            <p:cNvSpPr/>
            <p:nvPr/>
          </p:nvSpPr>
          <p:spPr>
            <a:xfrm>
              <a:off x="4132440" y="4243320"/>
              <a:ext cx="87840" cy="149760"/>
            </a:xfrm>
            <a:custGeom>
              <a:avLst/>
              <a:gdLst/>
              <a:ahLst/>
              <a:rect l="0" t="0" r="r" b="b"/>
              <a:pathLst>
                <a:path w="244" h="416">
                  <a:moveTo>
                    <a:pt x="120" y="416"/>
                  </a:moveTo>
                  <a:lnTo>
                    <a:pt x="0" y="0"/>
                  </a:lnTo>
                  <a:lnTo>
                    <a:pt x="120" y="0"/>
                  </a:lnTo>
                  <a:lnTo>
                    <a:pt x="244" y="0"/>
                  </a:lnTo>
                  <a:lnTo>
                    <a:pt x="120" y="4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175280" y="385596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726080" y="3878280"/>
            <a:ext cx="89280" cy="514800"/>
            <a:chOff x="4726080" y="3878280"/>
            <a:chExt cx="89280" cy="514800"/>
          </a:xfrm>
        </p:grpSpPr>
        <p:sp>
          <p:nvSpPr>
            <p:cNvPr id="336" name=""/>
            <p:cNvSpPr/>
            <p:nvPr/>
          </p:nvSpPr>
          <p:spPr>
            <a:xfrm>
              <a:off x="4726080" y="4243320"/>
              <a:ext cx="89280" cy="149760"/>
            </a:xfrm>
            <a:custGeom>
              <a:avLst/>
              <a:gdLst/>
              <a:ahLst/>
              <a:rect l="0" t="0" r="r" b="b"/>
              <a:pathLst>
                <a:path w="248" h="416">
                  <a:moveTo>
                    <a:pt x="124" y="416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248" y="0"/>
                  </a:lnTo>
                  <a:lnTo>
                    <a:pt x="124" y="4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770360" y="3878280"/>
              <a:ext cx="0" cy="37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 flipV="1">
            <a:off x="4592520" y="472932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49600" y="4541760"/>
            <a:ext cx="2635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362480" y="4514760"/>
            <a:ext cx="44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"/>
                <a:ea typeface="Bookman"/>
              </a:rPr>
              <a:t>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377040" y="3763800"/>
            <a:ext cx="1033200" cy="1149480"/>
            <a:chOff x="6377040" y="3763800"/>
            <a:chExt cx="1033200" cy="1149480"/>
          </a:xfrm>
        </p:grpSpPr>
        <p:grpSp>
          <p:nvGrpSpPr>
            <p:cNvPr id="342" name=""/>
            <p:cNvGrpSpPr/>
            <p:nvPr/>
          </p:nvGrpSpPr>
          <p:grpSpPr>
            <a:xfrm>
              <a:off x="6499080" y="3763800"/>
              <a:ext cx="911160" cy="1000080"/>
              <a:chOff x="6499080" y="3763800"/>
              <a:chExt cx="911160" cy="1000080"/>
            </a:xfrm>
          </p:grpSpPr>
          <p:sp>
            <p:nvSpPr>
              <p:cNvPr id="343" name=""/>
              <p:cNvSpPr/>
              <p:nvPr/>
            </p:nvSpPr>
            <p:spPr>
              <a:xfrm>
                <a:off x="6499080" y="4159080"/>
                <a:ext cx="911160" cy="604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30840" y="4254480"/>
                <a:ext cx="527040" cy="8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30840" y="4403880"/>
                <a:ext cx="527040" cy="9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30840" y="4552920"/>
                <a:ext cx="527040" cy="9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6642000" y="3763800"/>
                <a:ext cx="87840" cy="396000"/>
                <a:chOff x="6642000" y="3763800"/>
                <a:chExt cx="87840" cy="3960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6642000" y="4010040"/>
                  <a:ext cx="87840" cy="149760"/>
                </a:xfrm>
                <a:custGeom>
                  <a:avLst/>
                  <a:gdLst/>
                  <a:ahLst/>
                  <a:rect l="0" t="0" r="r" b="b"/>
                  <a:pathLst>
                    <a:path w="244" h="416">
                      <a:moveTo>
                        <a:pt x="124" y="416"/>
                      </a:moveTo>
                      <a:lnTo>
                        <a:pt x="0" y="0"/>
                      </a:lnTo>
                      <a:lnTo>
                        <a:pt x="124" y="0"/>
                      </a:lnTo>
                      <a:lnTo>
                        <a:pt x="244" y="0"/>
                      </a:lnTo>
                      <a:lnTo>
                        <a:pt x="124" y="4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642000" y="3763800"/>
                  <a:ext cx="87840" cy="149760"/>
                </a:xfrm>
                <a:custGeom>
                  <a:avLst/>
                  <a:gdLst/>
                  <a:ahLst/>
                  <a:rect l="0" t="0" r="r" b="b"/>
                  <a:pathLst>
                    <a:path w="244" h="416">
                      <a:moveTo>
                        <a:pt x="124" y="0"/>
                      </a:moveTo>
                      <a:lnTo>
                        <a:pt x="244" y="416"/>
                      </a:lnTo>
                      <a:lnTo>
                        <a:pt x="124" y="416"/>
                      </a:lnTo>
                      <a:lnTo>
                        <a:pt x="0" y="416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V="1">
                  <a:off x="6686640" y="3919680"/>
                  <a:ext cx="0" cy="9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6377040" y="3924360"/>
              <a:ext cx="901800" cy="988920"/>
              <a:chOff x="6377040" y="3924360"/>
              <a:chExt cx="901800" cy="988920"/>
            </a:xfrm>
          </p:grpSpPr>
          <p:sp>
            <p:nvSpPr>
              <p:cNvPr id="352" name=""/>
              <p:cNvSpPr/>
              <p:nvPr/>
            </p:nvSpPr>
            <p:spPr>
              <a:xfrm>
                <a:off x="6377040" y="4317840"/>
                <a:ext cx="901800" cy="595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499080" y="4403880"/>
                <a:ext cx="538200" cy="9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499080" y="4552920"/>
                <a:ext cx="538200" cy="9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99080" y="4702320"/>
                <a:ext cx="538200" cy="9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6521400" y="3924360"/>
                <a:ext cx="87840" cy="394200"/>
                <a:chOff x="6521400" y="3924360"/>
                <a:chExt cx="87840" cy="3942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6521400" y="4168800"/>
                  <a:ext cx="87840" cy="149760"/>
                </a:xfrm>
                <a:custGeom>
                  <a:avLst/>
                  <a:gdLst/>
                  <a:ahLst/>
                  <a:rect l="0" t="0" r="r" b="b"/>
                  <a:pathLst>
                    <a:path w="244" h="416">
                      <a:moveTo>
                        <a:pt x="120" y="416"/>
                      </a:moveTo>
                      <a:lnTo>
                        <a:pt x="0" y="0"/>
                      </a:lnTo>
                      <a:lnTo>
                        <a:pt x="120" y="0"/>
                      </a:lnTo>
                      <a:lnTo>
                        <a:pt x="244" y="0"/>
                      </a:lnTo>
                      <a:lnTo>
                        <a:pt x="120" y="4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521400" y="3924360"/>
                  <a:ext cx="87840" cy="149760"/>
                </a:xfrm>
                <a:custGeom>
                  <a:avLst/>
                  <a:gdLst/>
                  <a:ahLst/>
                  <a:rect l="0" t="0" r="r" b="b"/>
                  <a:pathLst>
                    <a:path w="244" h="416">
                      <a:moveTo>
                        <a:pt x="120" y="0"/>
                      </a:moveTo>
                      <a:lnTo>
                        <a:pt x="244" y="416"/>
                      </a:lnTo>
                      <a:lnTo>
                        <a:pt x="120" y="416"/>
                      </a:lnTo>
                      <a:lnTo>
                        <a:pt x="0" y="416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6564240" y="4079880"/>
                  <a:ext cx="0" cy="9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0" name=""/>
          <p:cNvSpPr txBox="1"/>
          <p:nvPr/>
        </p:nvSpPr>
        <p:spPr>
          <a:xfrm>
            <a:off x="7175520" y="4172040"/>
            <a:ext cx="712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"/>
                <a:ea typeface="Bookman"/>
              </a:rPr>
              <a:t>Contrô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7099200" y="4476600"/>
            <a:ext cx="712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Bookman"/>
                <a:ea typeface="Bookman"/>
              </a:rPr>
              <a:t>Contrô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049560" y="5562720"/>
            <a:ext cx="563724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C</dc:creator>
  <dc:description/>
  <dc:language>en-US</dc:language>
  <cp:lastModifiedBy>PowerMacintosh User</cp:lastModifiedBy>
  <cp:revision>0</cp:revision>
  <dc:subject/>
  <dc:title>Titre   Nom de l'auteur  Fonction de l'auteur</dc:title>
</cp:coreProperties>
</file>